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bomb.wav" ContentType="audio/x-wav"/>
  <Override PartName="/ppt/media/image10.gif" ContentType="image/gif"/>
  <Override PartName="/ppt/media/image13.png" ContentType="image/png"/>
  <Override PartName="/ppt/media/image11.gif" ContentType="image/gif"/>
  <Override PartName="/ppt/media/image6.gif" ContentType="image/gif"/>
  <Override PartName="/ppt/media/image16.jpeg" ContentType="image/jpeg"/>
  <Override PartName="/ppt/media/applause.wav" ContentType="audio/x-wav"/>
  <Override PartName="/ppt/media/image5.jpeg" ContentType="image/jpeg"/>
  <Override PartName="/ppt/media/image7.gif" ContentType="image/gif"/>
  <Override PartName="/ppt/media/image15.gif" ContentType="image/gif"/>
  <Override PartName="/ppt/media/whoosh.wav" ContentType="audio/x-wav"/>
  <Override PartName="/ppt/media/image2.png" ContentType="image/png"/>
  <Override PartName="/ppt/media/image9.jpeg" ContentType="image/jpeg"/>
  <Override PartName="/ppt/media/image12.png" ContentType="image/png"/>
  <Override PartName="/ppt/media/image1.gif" ContentType="image/gif"/>
  <Override PartName="/ppt/media/image3.png" ContentType="image/png"/>
  <Override PartName="/ppt/media/image4.gif" ContentType="image/gif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2C42-5D47-46F0-97FE-78375EC94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2C42-4009-4FC6-9A18-74965B54B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C5C3-B6E4-4264-BA18-AB712A7A4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D364-0E22-462F-8B99-49F7CC865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B9155-0A10-4FCA-977D-02C7F967A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5C632-1044-4A41-8596-56E00377A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866A1-EDF5-4F4B-AA11-58A75E6D7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94611-4ADA-4FC7-83E2-E7F1C143E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77396-B762-4C8D-8F34-B3C7B9194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7D95E-5D33-44AB-AD76-A728123CE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F88D8-916D-4CD9-9F3B-AF7DA782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8709-768B-4E11-8203-932D06E11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2BB63-5433-40E0-9A06-0FAAB9AB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033EA-6EBA-47DE-82AA-EB9AD9C0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9AA3B-F408-45E4-B8A3-DEE858F17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A3979-C268-4888-B34E-A51B94E5B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1EB46-F8ED-4AE7-976E-82CF60D02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B152-FA18-45E5-884B-27FDE431E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2758-4134-419C-9954-EE2E93598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390B-7F13-433D-A711-8295DAC74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97D8-9720-46B3-ABC5-2097E1928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9CBA-E271-4370-B5DC-C966920A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E48A-6E16-4DF6-8B39-68823305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B6FD-7E91-491F-81DF-98C17DC3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CA210-E304-4E14-B8F3-B28CD1CC4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DEEF8-1FF0-413D-98B3-B517F78C90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" Target="slide2.xml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gif"/><Relationship Id="rId3" Type="http://schemas.openxmlformats.org/officeDocument/2006/relationships/image" Target="../media/image10.gif"/><Relationship Id="rId4" Type="http://schemas.openxmlformats.org/officeDocument/2006/relationships/image" Target="../media/image6.gif"/><Relationship Id="rId5" Type="http://schemas.openxmlformats.org/officeDocument/2006/relationships/slide" Target="slide2.xml"/><Relationship Id="rId6" Type="http://schemas.openxmlformats.org/officeDocument/2006/relationships/image" Target="../media/image8.png"/><Relationship Id="rId7" Type="http://schemas.openxmlformats.org/officeDocument/2006/relationships/audio" Target="../media/bomb.wav"/><Relationship Id="rId8" Type="http://schemas.openxmlformats.org/officeDocument/2006/relationships/audio" Target="../media/bomb.wav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gif"/><Relationship Id="rId3" Type="http://schemas.openxmlformats.org/officeDocument/2006/relationships/image" Target="../media/image10.gif"/><Relationship Id="rId4" Type="http://schemas.openxmlformats.org/officeDocument/2006/relationships/image" Target="../media/image6.gif"/><Relationship Id="rId5" Type="http://schemas.openxmlformats.org/officeDocument/2006/relationships/slide" Target="slide2.xml"/><Relationship Id="rId6" Type="http://schemas.openxmlformats.org/officeDocument/2006/relationships/image" Target="../media/image8.png"/><Relationship Id="rId7" Type="http://schemas.openxmlformats.org/officeDocument/2006/relationships/audio" Target="../media/bomb.wav"/><Relationship Id="rId8" Type="http://schemas.openxmlformats.org/officeDocument/2006/relationships/audio" Target="../media/bomb.wav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gif"/><Relationship Id="rId3" Type="http://schemas.openxmlformats.org/officeDocument/2006/relationships/image" Target="../media/image10.gif"/><Relationship Id="rId4" Type="http://schemas.openxmlformats.org/officeDocument/2006/relationships/image" Target="../media/image6.gif"/><Relationship Id="rId5" Type="http://schemas.openxmlformats.org/officeDocument/2006/relationships/slide" Target="slide2.xml"/><Relationship Id="rId6" Type="http://schemas.openxmlformats.org/officeDocument/2006/relationships/image" Target="../media/image8.png"/><Relationship Id="rId7" Type="http://schemas.openxmlformats.org/officeDocument/2006/relationships/audio" Target="../media/bomb.wav"/><Relationship Id="rId8" Type="http://schemas.openxmlformats.org/officeDocument/2006/relationships/audio" Target="../media/bomb.wav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gif"/><Relationship Id="rId3" Type="http://schemas.openxmlformats.org/officeDocument/2006/relationships/image" Target="../media/image10.gif"/><Relationship Id="rId4" Type="http://schemas.openxmlformats.org/officeDocument/2006/relationships/image" Target="../media/image6.gif"/><Relationship Id="rId5" Type="http://schemas.openxmlformats.org/officeDocument/2006/relationships/slide" Target="slide2.xml"/><Relationship Id="rId6" Type="http://schemas.openxmlformats.org/officeDocument/2006/relationships/image" Target="../media/image8.png"/><Relationship Id="rId7" Type="http://schemas.openxmlformats.org/officeDocument/2006/relationships/audio" Target="../media/bomb.wav"/><Relationship Id="rId8" Type="http://schemas.openxmlformats.org/officeDocument/2006/relationships/audio" Target="../media/bomb.wav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gif"/><Relationship Id="rId3" Type="http://schemas.openxmlformats.org/officeDocument/2006/relationships/image" Target="../media/image10.gif"/><Relationship Id="rId4" Type="http://schemas.openxmlformats.org/officeDocument/2006/relationships/image" Target="../media/image6.gif"/><Relationship Id="rId5" Type="http://schemas.openxmlformats.org/officeDocument/2006/relationships/slide" Target="slide2.xml"/><Relationship Id="rId6" Type="http://schemas.openxmlformats.org/officeDocument/2006/relationships/image" Target="../media/image8.png"/><Relationship Id="rId7" Type="http://schemas.openxmlformats.org/officeDocument/2006/relationships/audio" Target="../media/bomb.wav"/><Relationship Id="rId8" Type="http://schemas.openxmlformats.org/officeDocument/2006/relationships/audio" Target="../media/bomb.wav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" Target="slide3.xml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4.gif"/><Relationship Id="rId8" Type="http://schemas.openxmlformats.org/officeDocument/2006/relationships/slide" Target="slide2.xml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" Target="slide10.xml"/><Relationship Id="rId3" Type="http://schemas.openxmlformats.org/officeDocument/2006/relationships/slide" Target="slide4.xml"/><Relationship Id="rId4" Type="http://schemas.openxmlformats.org/officeDocument/2006/relationships/slide" Target="slide10.xml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4.gif"/><Relationship Id="rId8" Type="http://schemas.openxmlformats.org/officeDocument/2006/relationships/slide" Target="slide2.xml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" Target="slide5.xml"/><Relationship Id="rId3" Type="http://schemas.openxmlformats.org/officeDocument/2006/relationships/slide" Target="slide11.xml"/><Relationship Id="rId4" Type="http://schemas.openxmlformats.org/officeDocument/2006/relationships/slide" Target="slide11.xml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4.gif"/><Relationship Id="rId8" Type="http://schemas.openxmlformats.org/officeDocument/2006/relationships/slide" Target="slide2.xml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" Target="slide12.xml"/><Relationship Id="rId3" Type="http://schemas.openxmlformats.org/officeDocument/2006/relationships/slide" Target="slide12.xml"/><Relationship Id="rId4" Type="http://schemas.openxmlformats.org/officeDocument/2006/relationships/slide" Target="slide6.xml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4.gif"/><Relationship Id="rId8" Type="http://schemas.openxmlformats.org/officeDocument/2006/relationships/slide" Target="slide2.xml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" Target="slide7.xml"/><Relationship Id="rId3" Type="http://schemas.openxmlformats.org/officeDocument/2006/relationships/slide" Target="slide13.xml"/><Relationship Id="rId4" Type="http://schemas.openxmlformats.org/officeDocument/2006/relationships/slide" Target="slide13.xml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4.gif"/><Relationship Id="rId8" Type="http://schemas.openxmlformats.org/officeDocument/2006/relationships/slide" Target="slide2.xml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slide" Target="slide16.xml"/><Relationship Id="rId6" Type="http://schemas.openxmlformats.org/officeDocument/2006/relationships/slide" Target="slide16.xml"/><Relationship Id="rId7" Type="http://schemas.openxmlformats.org/officeDocument/2006/relationships/slide" Target="slide1.xml"/><Relationship Id="rId8" Type="http://schemas.openxmlformats.org/officeDocument/2006/relationships/slide" Target="slide15.xml"/><Relationship Id="rId9" Type="http://schemas.openxmlformats.org/officeDocument/2006/relationships/slide" Target="slide15.xml"/><Relationship Id="rId10" Type="http://schemas.openxmlformats.org/officeDocument/2006/relationships/slide" Target="slide17.xml"/><Relationship Id="rId11" Type="http://schemas.openxmlformats.org/officeDocument/2006/relationships/slide" Target="slide17.xml"/><Relationship Id="rId12" Type="http://schemas.openxmlformats.org/officeDocument/2006/relationships/slide" Target="slide18.xml"/><Relationship Id="rId13" Type="http://schemas.openxmlformats.org/officeDocument/2006/relationships/slide" Target="slide18.xml"/><Relationship Id="rId14" Type="http://schemas.openxmlformats.org/officeDocument/2006/relationships/slide" Target="slide19.xml"/><Relationship Id="rId15" Type="http://schemas.openxmlformats.org/officeDocument/2006/relationships/slide" Target="slide19.xml"/><Relationship Id="rId16" Type="http://schemas.openxmlformats.org/officeDocument/2006/relationships/slide" Target="slide20.xml"/><Relationship Id="rId17" Type="http://schemas.openxmlformats.org/officeDocument/2006/relationships/slide" Target="slide20.xml"/><Relationship Id="rId18" Type="http://schemas.openxmlformats.org/officeDocument/2006/relationships/slide" Target="slide39.xml"/><Relationship Id="rId19" Type="http://schemas.openxmlformats.org/officeDocument/2006/relationships/slide" Target="slide39.xml"/><Relationship Id="rId20" Type="http://schemas.openxmlformats.org/officeDocument/2006/relationships/slide" Target="slide21.xml"/><Relationship Id="rId21" Type="http://schemas.openxmlformats.org/officeDocument/2006/relationships/slide" Target="slide21.xml"/><Relationship Id="rId22" Type="http://schemas.openxmlformats.org/officeDocument/2006/relationships/slide" Target="slide33.xml"/><Relationship Id="rId23" Type="http://schemas.openxmlformats.org/officeDocument/2006/relationships/slide" Target="slide33.xml"/><Relationship Id="rId24" Type="http://schemas.openxmlformats.org/officeDocument/2006/relationships/slide" Target="slide27.xml"/><Relationship Id="rId25" Type="http://schemas.openxmlformats.org/officeDocument/2006/relationships/slide" Target="slide27.xml"/><Relationship Id="rId26" Type="http://schemas.openxmlformats.org/officeDocument/2006/relationships/slide" Target="slide40.xml"/><Relationship Id="rId27" Type="http://schemas.openxmlformats.org/officeDocument/2006/relationships/slide" Target="slide40.xml"/><Relationship Id="rId28" Type="http://schemas.openxmlformats.org/officeDocument/2006/relationships/slide" Target="slide41.xml"/><Relationship Id="rId29" Type="http://schemas.openxmlformats.org/officeDocument/2006/relationships/slide" Target="slide41.xml"/><Relationship Id="rId30" Type="http://schemas.openxmlformats.org/officeDocument/2006/relationships/slide" Target="slide42.xml"/><Relationship Id="rId31" Type="http://schemas.openxmlformats.org/officeDocument/2006/relationships/slide" Target="slide42.xml"/><Relationship Id="rId32" Type="http://schemas.openxmlformats.org/officeDocument/2006/relationships/slide" Target="slide43.xml"/><Relationship Id="rId33" Type="http://schemas.openxmlformats.org/officeDocument/2006/relationships/slide" Target="slide43.xml"/><Relationship Id="rId34" Type="http://schemas.openxmlformats.org/officeDocument/2006/relationships/slide" Target="slide44.xml"/><Relationship Id="rId35" Type="http://schemas.openxmlformats.org/officeDocument/2006/relationships/slide" Target="slide44.xml"/><Relationship Id="rId36" Type="http://schemas.openxmlformats.org/officeDocument/2006/relationships/slide" Target="slide22.xml"/><Relationship Id="rId37" Type="http://schemas.openxmlformats.org/officeDocument/2006/relationships/slide" Target="slide22.xml"/><Relationship Id="rId38" Type="http://schemas.openxmlformats.org/officeDocument/2006/relationships/slide" Target="slide23.xml"/><Relationship Id="rId39" Type="http://schemas.openxmlformats.org/officeDocument/2006/relationships/slide" Target="slide23.xml"/><Relationship Id="rId40" Type="http://schemas.openxmlformats.org/officeDocument/2006/relationships/slide" Target="slide24.xml"/><Relationship Id="rId41" Type="http://schemas.openxmlformats.org/officeDocument/2006/relationships/slide" Target="slide24.xml"/><Relationship Id="rId42" Type="http://schemas.openxmlformats.org/officeDocument/2006/relationships/slide" Target="slide25.xml"/><Relationship Id="rId43" Type="http://schemas.openxmlformats.org/officeDocument/2006/relationships/slide" Target="slide25.xml"/><Relationship Id="rId44" Type="http://schemas.openxmlformats.org/officeDocument/2006/relationships/slide" Target="slide26.xml"/><Relationship Id="rId45" Type="http://schemas.openxmlformats.org/officeDocument/2006/relationships/slide" Target="slide26.xml"/><Relationship Id="rId46" Type="http://schemas.openxmlformats.org/officeDocument/2006/relationships/slide" Target="slide34.xml"/><Relationship Id="rId47" Type="http://schemas.openxmlformats.org/officeDocument/2006/relationships/slide" Target="slide34.xml"/><Relationship Id="rId48" Type="http://schemas.openxmlformats.org/officeDocument/2006/relationships/slide" Target="slide28.xml"/><Relationship Id="rId49" Type="http://schemas.openxmlformats.org/officeDocument/2006/relationships/slide" Target="slide28.xml"/><Relationship Id="rId50" Type="http://schemas.openxmlformats.org/officeDocument/2006/relationships/slide" Target="slide35.xml"/><Relationship Id="rId51" Type="http://schemas.openxmlformats.org/officeDocument/2006/relationships/slide" Target="slide35.xml"/><Relationship Id="rId52" Type="http://schemas.openxmlformats.org/officeDocument/2006/relationships/slide" Target="slide29.xml"/><Relationship Id="rId53" Type="http://schemas.openxmlformats.org/officeDocument/2006/relationships/slide" Target="slide29.xml"/><Relationship Id="rId54" Type="http://schemas.openxmlformats.org/officeDocument/2006/relationships/slide" Target="slide36.xml"/><Relationship Id="rId55" Type="http://schemas.openxmlformats.org/officeDocument/2006/relationships/slide" Target="slide36.xml"/><Relationship Id="rId56" Type="http://schemas.openxmlformats.org/officeDocument/2006/relationships/slide" Target="slide30.xml"/><Relationship Id="rId57" Type="http://schemas.openxmlformats.org/officeDocument/2006/relationships/slide" Target="slide30.xml"/><Relationship Id="rId58" Type="http://schemas.openxmlformats.org/officeDocument/2006/relationships/slide" Target="slide37.xml"/><Relationship Id="rId59" Type="http://schemas.openxmlformats.org/officeDocument/2006/relationships/slide" Target="slide37.xml"/><Relationship Id="rId60" Type="http://schemas.openxmlformats.org/officeDocument/2006/relationships/slide" Target="slide31.xml"/><Relationship Id="rId61" Type="http://schemas.openxmlformats.org/officeDocument/2006/relationships/slide" Target="slide31.xml"/><Relationship Id="rId62" Type="http://schemas.openxmlformats.org/officeDocument/2006/relationships/slide" Target="slide38.xml"/><Relationship Id="rId63" Type="http://schemas.openxmlformats.org/officeDocument/2006/relationships/slide" Target="slide38.xml"/><Relationship Id="rId64" Type="http://schemas.openxmlformats.org/officeDocument/2006/relationships/slide" Target="slide32.xml"/><Relationship Id="rId65" Type="http://schemas.openxmlformats.org/officeDocument/2006/relationships/slide" Target="slide32.xml"/><Relationship Id="rId6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slide" Target="slide8.xml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4.gif"/><Relationship Id="rId8" Type="http://schemas.openxmlformats.org/officeDocument/2006/relationships/slide" Target="slide2.xml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9.xml"/><Relationship Id="rId3" Type="http://schemas.openxmlformats.org/officeDocument/2006/relationships/slide" Target="slide3.xml"/><Relationship Id="rId4" Type="http://schemas.openxmlformats.org/officeDocument/2006/relationships/slide" Target="slide9.xml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4.gif"/><Relationship Id="rId8" Type="http://schemas.openxmlformats.org/officeDocument/2006/relationships/slide" Target="slide2.xml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4.xml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4.gif"/><Relationship Id="rId8" Type="http://schemas.openxmlformats.org/officeDocument/2006/relationships/slide" Target="slide2.xml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11.xml"/><Relationship Id="rId3" Type="http://schemas.openxmlformats.org/officeDocument/2006/relationships/slide" Target="slide5.xml"/><Relationship Id="rId4" Type="http://schemas.openxmlformats.org/officeDocument/2006/relationships/slide" Target="slide11.xml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4.gif"/><Relationship Id="rId8" Type="http://schemas.openxmlformats.org/officeDocument/2006/relationships/slide" Target="slide2.xml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6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4.gif"/><Relationship Id="rId8" Type="http://schemas.openxmlformats.org/officeDocument/2006/relationships/slide" Target="slide2.xml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7.xml"/><Relationship Id="rId3" Type="http://schemas.openxmlformats.org/officeDocument/2006/relationships/slide" Target="slide13.xml"/><Relationship Id="rId4" Type="http://schemas.openxmlformats.org/officeDocument/2006/relationships/slide" Target="slide13.xml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4.gif"/><Relationship Id="rId8" Type="http://schemas.openxmlformats.org/officeDocument/2006/relationships/slide" Target="slide2.xml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slide" Target="slide8.xml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4.gif"/><Relationship Id="rId8" Type="http://schemas.openxmlformats.org/officeDocument/2006/relationships/slide" Target="slide2.xml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9.xml"/><Relationship Id="rId3" Type="http://schemas.openxmlformats.org/officeDocument/2006/relationships/slide" Target="slide3.xml"/><Relationship Id="rId4" Type="http://schemas.openxmlformats.org/officeDocument/2006/relationships/slide" Target="slide9.xml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4.gif"/><Relationship Id="rId8" Type="http://schemas.openxmlformats.org/officeDocument/2006/relationships/slide" Target="slide2.xml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4.xml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4.gif"/><Relationship Id="rId8" Type="http://schemas.openxmlformats.org/officeDocument/2006/relationships/slide" Target="slide2.xml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11.xml"/><Relationship Id="rId3" Type="http://schemas.openxmlformats.org/officeDocument/2006/relationships/slide" Target="slide5.xml"/><Relationship Id="rId4" Type="http://schemas.openxmlformats.org/officeDocument/2006/relationships/slide" Target="slide11.xml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4.gif"/><Relationship Id="rId8" Type="http://schemas.openxmlformats.org/officeDocument/2006/relationships/slide" Target="slide2.xml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6.gif"/><Relationship Id="rId5" Type="http://schemas.openxmlformats.org/officeDocument/2006/relationships/slide" Target="slide2.xml"/><Relationship Id="rId6" Type="http://schemas.openxmlformats.org/officeDocument/2006/relationships/image" Target="../media/image8.png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6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4.gif"/><Relationship Id="rId8" Type="http://schemas.openxmlformats.org/officeDocument/2006/relationships/slide" Target="slide2.xml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13.xml"/><Relationship Id="rId3" Type="http://schemas.openxmlformats.org/officeDocument/2006/relationships/slide" Target="slide13.xml"/><Relationship Id="rId4" Type="http://schemas.openxmlformats.org/officeDocument/2006/relationships/slide" Target="slide7.xml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4.gif"/><Relationship Id="rId8" Type="http://schemas.openxmlformats.org/officeDocument/2006/relationships/slide" Target="slide2.xml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8.xml"/><Relationship Id="rId3" Type="http://schemas.openxmlformats.org/officeDocument/2006/relationships/slide" Target="slide14.xml"/><Relationship Id="rId4" Type="http://schemas.openxmlformats.org/officeDocument/2006/relationships/slide" Target="slide14.xml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4.gif"/><Relationship Id="rId8" Type="http://schemas.openxmlformats.org/officeDocument/2006/relationships/slide" Target="slide2.xml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" Target="slide3.xml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4.gif"/><Relationship Id="rId8" Type="http://schemas.openxmlformats.org/officeDocument/2006/relationships/slide" Target="slide2.xml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4.xml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4.gif"/><Relationship Id="rId8" Type="http://schemas.openxmlformats.org/officeDocument/2006/relationships/slide" Target="slide2.xml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" Target="slide5.xml"/><Relationship Id="rId3" Type="http://schemas.openxmlformats.org/officeDocument/2006/relationships/slide" Target="slide11.xml"/><Relationship Id="rId4" Type="http://schemas.openxmlformats.org/officeDocument/2006/relationships/slide" Target="slide11.xml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4.gif"/><Relationship Id="rId8" Type="http://schemas.openxmlformats.org/officeDocument/2006/relationships/slide" Target="slide2.xml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" Target="slide12.xml"/><Relationship Id="rId3" Type="http://schemas.openxmlformats.org/officeDocument/2006/relationships/slide" Target="slide6.xml"/><Relationship Id="rId4" Type="http://schemas.openxmlformats.org/officeDocument/2006/relationships/slide" Target="slide12.xml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4.gif"/><Relationship Id="rId8" Type="http://schemas.openxmlformats.org/officeDocument/2006/relationships/slide" Target="slide2.xml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" Target="slide13.xml"/><Relationship Id="rId3" Type="http://schemas.openxmlformats.org/officeDocument/2006/relationships/slide" Target="slide7.xml"/><Relationship Id="rId4" Type="http://schemas.openxmlformats.org/officeDocument/2006/relationships/slide" Target="slide13.xml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4.gif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slide" Target="slide8.xml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4.gif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slide" Target="slide3.xml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4.gif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6.gif"/><Relationship Id="rId5" Type="http://schemas.openxmlformats.org/officeDocument/2006/relationships/slide" Target="slide2.xml"/><Relationship Id="rId6" Type="http://schemas.openxmlformats.org/officeDocument/2006/relationships/image" Target="../media/image8.png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4.xml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4.gif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11.xml"/><Relationship Id="rId3" Type="http://schemas.openxmlformats.org/officeDocument/2006/relationships/slide" Target="slide5.xml"/><Relationship Id="rId4" Type="http://schemas.openxmlformats.org/officeDocument/2006/relationships/slide" Target="slide11.xml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4.gif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12.xml"/><Relationship Id="rId3" Type="http://schemas.openxmlformats.org/officeDocument/2006/relationships/slide" Target="slide12.xml"/><Relationship Id="rId4" Type="http://schemas.openxmlformats.org/officeDocument/2006/relationships/slide" Target="slide6.xml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4.gif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7.xml"/><Relationship Id="rId3" Type="http://schemas.openxmlformats.org/officeDocument/2006/relationships/slide" Target="slide13.xml"/><Relationship Id="rId4" Type="http://schemas.openxmlformats.org/officeDocument/2006/relationships/slide" Target="slide13.xml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4.gif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14.xml"/><Relationship Id="rId3" Type="http://schemas.openxmlformats.org/officeDocument/2006/relationships/slide" Target="slide8.xml"/><Relationship Id="rId4" Type="http://schemas.openxmlformats.org/officeDocument/2006/relationships/slide" Target="slide14.xml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4.gif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6.gif"/><Relationship Id="rId5" Type="http://schemas.openxmlformats.org/officeDocument/2006/relationships/slide" Target="slide2.xml"/><Relationship Id="rId6" Type="http://schemas.openxmlformats.org/officeDocument/2006/relationships/image" Target="../media/image8.png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6.gif"/><Relationship Id="rId5" Type="http://schemas.openxmlformats.org/officeDocument/2006/relationships/slide" Target="slide2.xml"/><Relationship Id="rId6" Type="http://schemas.openxmlformats.org/officeDocument/2006/relationships/image" Target="../media/image8.png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6.gif"/><Relationship Id="rId5" Type="http://schemas.openxmlformats.org/officeDocument/2006/relationships/slide" Target="slide2.xml"/><Relationship Id="rId6" Type="http://schemas.openxmlformats.org/officeDocument/2006/relationships/image" Target="../media/image8.png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6.gif"/><Relationship Id="rId5" Type="http://schemas.openxmlformats.org/officeDocument/2006/relationships/slide" Target="slide2.xml"/><Relationship Id="rId6" Type="http://schemas.openxmlformats.org/officeDocument/2006/relationships/image" Target="../media/image8.png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gif"/><Relationship Id="rId3" Type="http://schemas.openxmlformats.org/officeDocument/2006/relationships/image" Target="../media/image10.gif"/><Relationship Id="rId4" Type="http://schemas.openxmlformats.org/officeDocument/2006/relationships/image" Target="../media/image6.gif"/><Relationship Id="rId5" Type="http://schemas.openxmlformats.org/officeDocument/2006/relationships/slide" Target="slide2.xml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audio" Target="../media/bomb.wav"/><Relationship Id="rId9" Type="http://schemas.openxmlformats.org/officeDocument/2006/relationships/audio" Target="../media/bomb.wav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50920" y="692280"/>
            <a:ext cx="360036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7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ladimir Script"/>
              </a:rPr>
              <a:t>ИГРА</a:t>
            </a:r>
            <a:endParaRPr b="1" lang="en-US" sz="44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ladimir Script"/>
              <a:ea typeface="Vladimir Scrip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4284720" y="2060640"/>
            <a:ext cx="4284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ХОЧУ</a:t>
            </a:r>
            <a:endParaRPr b="1" lang="en-US" sz="4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9540720" y="2133720"/>
            <a:ext cx="3097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ВСЁ</a:t>
            </a:r>
            <a:endParaRPr b="1" lang="en-US" sz="4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258920" y="7893000"/>
            <a:ext cx="684036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7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ЗНАТЬ !</a:t>
            </a:r>
            <a:endParaRPr b="1" lang="en-US" sz="4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484360" y="4869000"/>
            <a:ext cx="4896000" cy="1081080"/>
          </a:xfrm>
          <a:prstGeom prst="roundRect">
            <a:avLst>
              <a:gd name="adj" fmla="val 16667"/>
            </a:avLst>
          </a:prstGeom>
          <a:solidFill>
            <a:srgbClr val="ccffff">
              <a:alpha val="54000"/>
            </a:srgbClr>
          </a:solidFill>
          <a:ln w="0">
            <a:noFill/>
          </a:ln>
          <a:effectLst>
            <a:outerShdw dist="45929" dir="19571123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Интерактивный контроль по тем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«Соединения химических эле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6588000" y="6453360"/>
            <a:ext cx="2374920" cy="404640"/>
          </a:xfrm>
          <a:custGeom>
            <a:avLst/>
            <a:gdLst>
              <a:gd name="textAreaLeft" fmla="*/ 25920 w 2374920"/>
              <a:gd name="textAreaRight" fmla="*/ 2349000 w 2374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126682" h="21600">
                <a:moveTo>
                  <a:pt x="0" y="0"/>
                </a:moveTo>
                <a:lnTo>
                  <a:pt x="126682" y="0"/>
                </a:lnTo>
                <a:lnTo>
                  <a:pt x="126682" y="21600"/>
                </a:lnTo>
                <a:lnTo>
                  <a:pt x="0" y="21600"/>
                </a:lnTo>
                <a:close/>
              </a:path>
              <a:path fill="lightenLess" w="126682" h="21600">
                <a:moveTo>
                  <a:pt x="0" y="0"/>
                </a:moveTo>
                <a:lnTo>
                  <a:pt x="126682" y="0"/>
                </a:lnTo>
                <a:lnTo>
                  <a:pt x="125282" y="1400"/>
                </a:lnTo>
                <a:lnTo>
                  <a:pt x="1400" y="1400"/>
                </a:lnTo>
                <a:close/>
              </a:path>
              <a:path fill="darken" w="126682" h="21600">
                <a:moveTo>
                  <a:pt x="126682" y="0"/>
                </a:moveTo>
                <a:lnTo>
                  <a:pt x="126682" y="21600"/>
                </a:lnTo>
                <a:lnTo>
                  <a:pt x="125282" y="20200"/>
                </a:lnTo>
                <a:lnTo>
                  <a:pt x="125282" y="1400"/>
                </a:lnTo>
                <a:close/>
              </a:path>
              <a:path fill="darkenLess" w="126682" h="21600">
                <a:moveTo>
                  <a:pt x="1266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5282" y="20200"/>
                </a:lnTo>
                <a:close/>
              </a:path>
              <a:path fill="lighten" w="1266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Начать иг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 repeatCount="4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path" presetID="6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8 0.01065 -0.017 0.0213 -0.021 0.03462 C -0.025 0.04926 -0.027 0.06657 -0.029 0.08388 C -0.031 0.10119 -0.029 0.11584 -0.027 0.13182 C -0.025 0.14646 -0.022 0.16244 -0.015 0.17576 C -0.009 0.18907 0.001 0.19972 0.012 0.20771 C 0.022 0.2157 0.034 0.22103 0.046 0.22369 C 0.058 0.22635 0.07 0.22635 0.081 0.22369 C 0.093 0.22103 0.104 0.21437 0.113 0.20372 C 0.122 0.1944 0.13 0.18241 0.134 0.16777 C 0.139 0.15445 0.141 0.13581 0.141 0.12117 C 0.142 0.10652 0.141 0.08921 0.136 0.07456 C 0.131 0.06125 0.122 0.0506 0.11 0.04527 C 0.098 0.04128 0.086 0.0466 0.078 0.05592 C 0.071 0.06524 0.066 0.07989 0.065 0.0972 C 0.065 0.11451 0.066 0.13049 0.071 0.1438 C 0.076 0.15712 0.075 0.15978 0.095 0.17709 C 0.113 0.19573 0.131 0.1904 0.142 0.19173 C 0.153 0.19173 0.162 0.18641 0.173 0.18108 C 0.185 0.17442 0.195 0.16244 0.202 0.15179 C 0.209 0.14114 0.212 0.12782 0.216 0.10652 C 0.219 0.08521 0.219 0.07456 0.219 0.05859 C 0.219 0.04261 0.219 0.02663 0.219 0.01065 E">
                                      <p:cBhvr>
                                        <p:cTn id="12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854 0.01065 C 0.19444 0.13009 0.30035 0.24953 0.37187 0.3162 C 0.4434 0.38287 0.46632 0.38935 0.51771 0.41065 C 0.5691 0.43194 0.62257 0.43657 0.68021 0.44398 C 0.73785 0.45139 0.81007 0.45509 0.86354 0.45509 C 0.91701 0.45509 0.95868 0.45509 1.00104 0.44398 C 1.0434 0.43287 1.07396 0.41065 1.11771 0.38842 C 1.16146 0.3662 1.21076 0.34953 1.26354 0.31065 C 1.31632 0.27176 1.37257 0.19213 1.43437 0.15509 C 1.49618 0.11805 1.58785 0.10972 1.63437 0.08842 C 1.6809 0.06713 1.90104 0.03565 1.71354 0.02731 C 1.52604 0.01898 0.71007 0.03657 0.50937 0.03842 E">
                                      <p:cBhvr>
                                        <p:cTn id="15" dur="3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754 0.02153 C -0.1974 0.10208 -0.32726 0.18264 -0.45087 0.21597 C -0.57448 0.2493 -0.68906 0.23449 -0.8092 0.22153 C -0.92934 0.20856 -1.03976 0.1743 -1.1717 0.13819 C -1.30365 0.10208 -1.61823 0.0456 -1.60087 0.00486 C -1.58351 -0.03588 -1.26684 -0.08681 -1.06754 -0.10625 C -0.86823 -0.1257 -0.50643 -0.13125 -0.40538 -0.11181 C -0.30365 -0.09236 -0.45018 -0.00996 -0.45938 0.01041 E">
                                      <p:cBhvr>
                                        <p:cTn id="17" dur="3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85185E-006 L -0.00382 -0.63519 E">
                                      <p:cBhvr>
                                        <p:cTn id="19" dur="5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403280" y="620640"/>
            <a:ext cx="1513080" cy="9716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6300720" y="2276640"/>
            <a:ext cx="1978200" cy="23493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 flipH="1">
            <a:off x="6877080" y="692280"/>
            <a:ext cx="1440000" cy="10746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979640" y="2708280"/>
            <a:ext cx="432108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Arial"/>
              </a:rPr>
              <a:t>Вы  теряе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Demi"/>
              </a:rPr>
              <a:t>20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4100" spc="-1" strike="noStrike">
                <a:solidFill>
                  <a:srgbClr val="ff0000"/>
                </a:solidFill>
                <a:latin typeface="Courier New"/>
              </a:rPr>
              <a:t>баллов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771640" y="836640"/>
            <a:ext cx="41292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3366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50000">
                      <a:srgbClr val="006699"/>
                    </a:gs>
                    <a:gs pos="100000">
                      <a:srgbClr val="3399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Wide Latin"/>
              </a:rPr>
              <a:t>Ошибка!</a:t>
            </a:r>
            <a:endParaRPr b="1" lang="en-US" sz="1800" spc="1" strike="noStrike">
              <a:ln w="28440">
                <a:solidFill>
                  <a:srgbClr val="003366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50000">
                    <a:srgbClr val="006699"/>
                  </a:gs>
                  <a:gs pos="100000">
                    <a:srgbClr val="3399f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Wide Latin"/>
              <a:ea typeface="Wide Latin"/>
            </a:endParaRPr>
          </a:p>
        </p:txBody>
      </p:sp>
      <p:sp>
        <p:nvSpPr>
          <p:cNvPr id="196" name=""/>
          <p:cNvSpPr txBox="1"/>
          <p:nvPr/>
        </p:nvSpPr>
        <p:spPr>
          <a:xfrm rot="19668600">
            <a:off x="7227360" y="1926720"/>
            <a:ext cx="1405080" cy="68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Lef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й !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97" name="">
            <a:hlinkClick r:id="rId5" action="ppaction://hlinksldjump"/>
          </p:cNvPr>
          <p:cNvSpPr/>
          <p:nvPr/>
        </p:nvSpPr>
        <p:spPr>
          <a:xfrm>
            <a:off x="6443640" y="6308640"/>
            <a:ext cx="2411280" cy="433440"/>
          </a:xfrm>
          <a:prstGeom prst="bevel">
            <a:avLst>
              <a:gd name="adj" fmla="val 125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должить иг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7" dur="58395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1403280" y="620640"/>
            <a:ext cx="1513080" cy="9716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6300720" y="2276640"/>
            <a:ext cx="1978200" cy="23493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 flipH="1">
            <a:off x="6877080" y="692280"/>
            <a:ext cx="1440000" cy="10746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979640" y="2708280"/>
            <a:ext cx="432108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Arial"/>
              </a:rPr>
              <a:t>Вы  теряе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Demi"/>
              </a:rPr>
              <a:t>30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4100" spc="-1" strike="noStrike">
                <a:solidFill>
                  <a:srgbClr val="ff0000"/>
                </a:solidFill>
                <a:latin typeface="Courier New"/>
              </a:rPr>
              <a:t>баллов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771640" y="836640"/>
            <a:ext cx="41292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3366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50000">
                      <a:srgbClr val="006699"/>
                    </a:gs>
                    <a:gs pos="100000">
                      <a:srgbClr val="3399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Wide Latin"/>
              </a:rPr>
              <a:t>Ошибка!</a:t>
            </a:r>
            <a:endParaRPr b="1" lang="en-US" sz="1800" spc="1" strike="noStrike">
              <a:ln w="28440">
                <a:solidFill>
                  <a:srgbClr val="003366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50000">
                    <a:srgbClr val="006699"/>
                  </a:gs>
                  <a:gs pos="100000">
                    <a:srgbClr val="3399f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Wide Latin"/>
              <a:ea typeface="Wide Latin"/>
            </a:endParaRPr>
          </a:p>
        </p:txBody>
      </p:sp>
      <p:sp>
        <p:nvSpPr>
          <p:cNvPr id="204" name=""/>
          <p:cNvSpPr txBox="1"/>
          <p:nvPr/>
        </p:nvSpPr>
        <p:spPr>
          <a:xfrm rot="19668600">
            <a:off x="7227360" y="1926720"/>
            <a:ext cx="1405080" cy="68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Lef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й !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05" name="">
            <a:hlinkClick r:id="rId5" action="ppaction://hlinksldjump"/>
          </p:cNvPr>
          <p:cNvSpPr/>
          <p:nvPr/>
        </p:nvSpPr>
        <p:spPr>
          <a:xfrm>
            <a:off x="6443640" y="6308640"/>
            <a:ext cx="2411280" cy="433440"/>
          </a:xfrm>
          <a:prstGeom prst="bevel">
            <a:avLst>
              <a:gd name="adj" fmla="val 125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должить иг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4" dur="58395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1403280" y="620640"/>
            <a:ext cx="1513080" cy="9716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6300720" y="2276640"/>
            <a:ext cx="1978200" cy="23493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 flipH="1">
            <a:off x="6877080" y="692280"/>
            <a:ext cx="1440000" cy="10746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979640" y="2708280"/>
            <a:ext cx="432108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Arial"/>
              </a:rPr>
              <a:t>Вы  теряе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Demi"/>
              </a:rPr>
              <a:t>40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4100" spc="-1" strike="noStrike">
                <a:solidFill>
                  <a:srgbClr val="ff0000"/>
                </a:solidFill>
                <a:latin typeface="Courier New"/>
              </a:rPr>
              <a:t>баллов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771640" y="836640"/>
            <a:ext cx="41292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3366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50000">
                      <a:srgbClr val="006699"/>
                    </a:gs>
                    <a:gs pos="100000">
                      <a:srgbClr val="3399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Wide Latin"/>
              </a:rPr>
              <a:t>Ошибка!</a:t>
            </a:r>
            <a:endParaRPr b="1" lang="en-US" sz="1800" spc="1" strike="noStrike">
              <a:ln w="28440">
                <a:solidFill>
                  <a:srgbClr val="003366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50000">
                    <a:srgbClr val="006699"/>
                  </a:gs>
                  <a:gs pos="100000">
                    <a:srgbClr val="3399f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Wide Latin"/>
              <a:ea typeface="Wide Latin"/>
            </a:endParaRPr>
          </a:p>
        </p:txBody>
      </p:sp>
      <p:sp>
        <p:nvSpPr>
          <p:cNvPr id="212" name=""/>
          <p:cNvSpPr txBox="1"/>
          <p:nvPr/>
        </p:nvSpPr>
        <p:spPr>
          <a:xfrm rot="19668600">
            <a:off x="7227360" y="1926720"/>
            <a:ext cx="1405080" cy="68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Lef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й !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13" name="">
            <a:hlinkClick r:id="rId5" action="ppaction://hlinksldjump"/>
          </p:cNvPr>
          <p:cNvSpPr/>
          <p:nvPr/>
        </p:nvSpPr>
        <p:spPr>
          <a:xfrm>
            <a:off x="6443640" y="6308640"/>
            <a:ext cx="2411280" cy="433440"/>
          </a:xfrm>
          <a:prstGeom prst="bevel">
            <a:avLst>
              <a:gd name="adj" fmla="val 125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должить иг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1" dur="58395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403280" y="620640"/>
            <a:ext cx="1513080" cy="9716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6300720" y="2276640"/>
            <a:ext cx="1978200" cy="2349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 flipH="1">
            <a:off x="6877080" y="692280"/>
            <a:ext cx="1440000" cy="10746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979640" y="2708280"/>
            <a:ext cx="432108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Arial"/>
              </a:rPr>
              <a:t>Вы  теряе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Demi"/>
              </a:rPr>
              <a:t>50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4100" spc="-1" strike="noStrike">
                <a:solidFill>
                  <a:srgbClr val="ff0000"/>
                </a:solidFill>
                <a:latin typeface="Courier New"/>
              </a:rPr>
              <a:t>баллов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771640" y="836640"/>
            <a:ext cx="41292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3366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50000">
                      <a:srgbClr val="006699"/>
                    </a:gs>
                    <a:gs pos="100000">
                      <a:srgbClr val="3399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Wide Latin"/>
              </a:rPr>
              <a:t>Ошибка!</a:t>
            </a:r>
            <a:endParaRPr b="1" lang="en-US" sz="1800" spc="1" strike="noStrike">
              <a:ln w="28440">
                <a:solidFill>
                  <a:srgbClr val="003366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50000">
                    <a:srgbClr val="006699"/>
                  </a:gs>
                  <a:gs pos="100000">
                    <a:srgbClr val="3399f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Wide Latin"/>
              <a:ea typeface="Wide Latin"/>
            </a:endParaRPr>
          </a:p>
        </p:txBody>
      </p:sp>
      <p:sp>
        <p:nvSpPr>
          <p:cNvPr id="220" name=""/>
          <p:cNvSpPr txBox="1"/>
          <p:nvPr/>
        </p:nvSpPr>
        <p:spPr>
          <a:xfrm rot="19668600">
            <a:off x="7227360" y="1926720"/>
            <a:ext cx="1405080" cy="68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Lef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й !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21" name="">
            <a:hlinkClick r:id="rId5" action="ppaction://hlinksldjump"/>
          </p:cNvPr>
          <p:cNvSpPr/>
          <p:nvPr/>
        </p:nvSpPr>
        <p:spPr>
          <a:xfrm>
            <a:off x="6443640" y="6308640"/>
            <a:ext cx="2411280" cy="433440"/>
          </a:xfrm>
          <a:prstGeom prst="bevel">
            <a:avLst>
              <a:gd name="adj" fmla="val 125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должить иг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8" dur="58395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1403280" y="620640"/>
            <a:ext cx="1513080" cy="9716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6300720" y="2276640"/>
            <a:ext cx="1978200" cy="23493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 flipH="1">
            <a:off x="6877080" y="692280"/>
            <a:ext cx="1440000" cy="10746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979640" y="2708280"/>
            <a:ext cx="432108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Arial"/>
              </a:rPr>
              <a:t>Вы  теряе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Demi"/>
              </a:rPr>
              <a:t>60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4100" spc="-1" strike="noStrike">
                <a:solidFill>
                  <a:srgbClr val="ff0000"/>
                </a:solidFill>
                <a:latin typeface="Courier New"/>
              </a:rPr>
              <a:t>баллов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771640" y="836640"/>
            <a:ext cx="41292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3366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50000">
                      <a:srgbClr val="006699"/>
                    </a:gs>
                    <a:gs pos="100000">
                      <a:srgbClr val="3399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Wide Latin"/>
              </a:rPr>
              <a:t>Ошибка!</a:t>
            </a:r>
            <a:endParaRPr b="1" lang="en-US" sz="1800" spc="1" strike="noStrike">
              <a:ln w="28440">
                <a:solidFill>
                  <a:srgbClr val="003366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50000">
                    <a:srgbClr val="006699"/>
                  </a:gs>
                  <a:gs pos="100000">
                    <a:srgbClr val="3399f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Wide Latin"/>
              <a:ea typeface="Wide Latin"/>
            </a:endParaRPr>
          </a:p>
        </p:txBody>
      </p:sp>
      <p:sp>
        <p:nvSpPr>
          <p:cNvPr id="228" name=""/>
          <p:cNvSpPr txBox="1"/>
          <p:nvPr/>
        </p:nvSpPr>
        <p:spPr>
          <a:xfrm rot="19668600">
            <a:off x="7227360" y="1926720"/>
            <a:ext cx="1405080" cy="68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Lef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й !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29" name="">
            <a:hlinkClick r:id="rId5" action="ppaction://hlinksldjump"/>
          </p:cNvPr>
          <p:cNvSpPr/>
          <p:nvPr/>
        </p:nvSpPr>
        <p:spPr>
          <a:xfrm>
            <a:off x="6443640" y="6308640"/>
            <a:ext cx="2411280" cy="433440"/>
          </a:xfrm>
          <a:prstGeom prst="bevel">
            <a:avLst>
              <a:gd name="adj" fmla="val 125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должить иг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5" dur="58395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>
            <a:hlinkClick r:id="rId2" action="ppaction://hlinksldjump"/>
          </p:cNvPr>
          <p:cNvSpPr/>
          <p:nvPr/>
        </p:nvSpPr>
        <p:spPr>
          <a:xfrm>
            <a:off x="2484360" y="5229360"/>
            <a:ext cx="4464000" cy="1628640"/>
          </a:xfrm>
          <a:prstGeom prst="ellipse">
            <a:avLst/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5400000"/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) НКисл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rId3" action="ppaction://hlinksldjump"/>
          </p:cNvPr>
          <p:cNvSpPr/>
          <p:nvPr/>
        </p:nvSpPr>
        <p:spPr>
          <a:xfrm>
            <a:off x="4572000" y="3789360"/>
            <a:ext cx="4321080" cy="1511280"/>
          </a:xfrm>
          <a:prstGeom prst="ellipse">
            <a:avLst/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5400000"/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 МеО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rId4" action="ppaction://hlinksldjump"/>
          </p:cNvPr>
          <p:cNvSpPr/>
          <p:nvPr/>
        </p:nvSpPr>
        <p:spPr>
          <a:xfrm>
            <a:off x="179280" y="3789360"/>
            <a:ext cx="4321440" cy="1511280"/>
          </a:xfrm>
          <a:prstGeom prst="ellipse">
            <a:avLst/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5400000"/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 МеКисл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68360" y="404640"/>
            <a:ext cx="12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ladimir Script"/>
              </a:rPr>
              <a:t>ИГРА</a:t>
            </a:r>
            <a:endParaRPr b="1" lang="en-US" sz="44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ladimir Script"/>
              <a:ea typeface="Vladimir Script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979640" y="404640"/>
            <a:ext cx="1871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ХОЧУ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067280" y="333360"/>
            <a:ext cx="1368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СЁ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724360" y="404640"/>
            <a:ext cx="2665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НАТЬ!"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7"/>
          <a:stretch/>
        </p:blipFill>
        <p:spPr>
          <a:xfrm>
            <a:off x="2124000" y="907920"/>
            <a:ext cx="6335640" cy="2174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2700360" y="1341360"/>
            <a:ext cx="1152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Gautami"/>
              </a:rPr>
              <a:t>ТЕМА :</a:t>
            </a:r>
            <a:endParaRPr b="1" i="1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Gautami"/>
              <a:ea typeface="Gautami"/>
            </a:endParaRPr>
          </a:p>
        </p:txBody>
      </p:sp>
      <p:sp>
        <p:nvSpPr>
          <p:cNvPr id="240" name=""/>
          <p:cNvSpPr/>
          <p:nvPr/>
        </p:nvSpPr>
        <p:spPr>
          <a:xfrm>
            <a:off x="755640" y="981000"/>
            <a:ext cx="720720" cy="647640"/>
          </a:xfrm>
          <a:custGeom>
            <a:avLst/>
            <a:gdLst>
              <a:gd name="textAreaLeft" fmla="*/ 92160 w 720720"/>
              <a:gd name="textAreaRight" fmla="*/ 628560 w 720720"/>
              <a:gd name="textAreaTop" fmla="*/ 92160 h 647640"/>
              <a:gd name="textAreaBottom" fmla="*/ 5554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0961" y="3075"/>
                </a:lnTo>
                <a:lnTo>
                  <a:pt x="3075" y="3075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0961" y="18525"/>
                </a:lnTo>
                <a:lnTo>
                  <a:pt x="20961" y="3075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3075" y="18525"/>
                </a:lnTo>
                <a:lnTo>
                  <a:pt x="20961" y="18525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3075" y="3075"/>
                </a:lnTo>
                <a:lnTo>
                  <a:pt x="3075" y="18525"/>
                </a:lnTo>
                <a:close/>
              </a:path>
            </a:pathLst>
          </a:custGeom>
          <a:gradFill rotWithShape="0">
            <a:gsLst>
              <a:gs pos="0">
                <a:srgbClr val="97cd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rot="10800000">
            <a:off x="249840" y="1844640"/>
            <a:ext cx="8569080" cy="1944720"/>
          </a:xfrm>
          <a:prstGeom prst="wedgeEllipseCallout">
            <a:avLst>
              <a:gd name="adj1" fmla="val -35810"/>
              <a:gd name="adj2" fmla="val 59384"/>
            </a:avLst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16200000"/>
          </a:gradFill>
          <a:ln w="5724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Первой кислотой, с которой познакомился человек, была </a:t>
            </a: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уксусная кислота,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название происходит от греческого «оксос»- кислый. Как можно записать общую формулу для кисло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rId8" action="ppaction://hlinksldjump"/>
          </p:cNvPr>
          <p:cNvSpPr/>
          <p:nvPr/>
        </p:nvSpPr>
        <p:spPr>
          <a:xfrm>
            <a:off x="6948360" y="6237360"/>
            <a:ext cx="1979640" cy="433440"/>
          </a:xfrm>
          <a:prstGeom prst="bevel">
            <a:avLst>
              <a:gd name="adj" fmla="val 125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должить иг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500720" y="1125360"/>
            <a:ext cx="35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Arial"/>
              </a:rPr>
              <a:t>« Кислот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385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6" dur="385" fill="hold"/>
                                        <p:tgtEl>
                                          <p:spTgt spid="2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8" dur="385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0" dur="385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500"/>
                            </p:stCondLst>
                            <p:childTnLst>
                              <p:par>
                                <p:cTn id="3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>
            <a:hlinkClick r:id="rId2" action="ppaction://hlinksldjump"/>
          </p:cNvPr>
          <p:cNvSpPr/>
          <p:nvPr/>
        </p:nvSpPr>
        <p:spPr>
          <a:xfrm>
            <a:off x="2484360" y="5229360"/>
            <a:ext cx="4464000" cy="1628640"/>
          </a:xfrm>
          <a:prstGeom prst="ellipse">
            <a:avLst/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5400000"/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HNO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>
            <a:hlinkClick r:id="rId3" action="ppaction://hlinksldjump"/>
          </p:cNvPr>
          <p:cNvSpPr/>
          <p:nvPr/>
        </p:nvSpPr>
        <p:spPr>
          <a:xfrm>
            <a:off x="4572000" y="3789360"/>
            <a:ext cx="4321080" cy="1511280"/>
          </a:xfrm>
          <a:prstGeom prst="ellipse">
            <a:avLst/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5400000"/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>
            <a:hlinkClick r:id="rId4" action="ppaction://hlinksldjump"/>
          </p:cNvPr>
          <p:cNvSpPr/>
          <p:nvPr/>
        </p:nvSpPr>
        <p:spPr>
          <a:xfrm>
            <a:off x="179280" y="3789360"/>
            <a:ext cx="4321440" cy="1511280"/>
          </a:xfrm>
          <a:prstGeom prst="ellipse">
            <a:avLst/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5400000"/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68360" y="404640"/>
            <a:ext cx="12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ladimir Script"/>
              </a:rPr>
              <a:t>ИГРА</a:t>
            </a:r>
            <a:endParaRPr b="1" lang="en-US" sz="44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ladimir Script"/>
              <a:ea typeface="Vladimir Script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979640" y="404640"/>
            <a:ext cx="1871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ХОЧУ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067280" y="333360"/>
            <a:ext cx="1368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СЁ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724360" y="404640"/>
            <a:ext cx="2665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НАТЬ!"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7"/>
          <a:stretch/>
        </p:blipFill>
        <p:spPr>
          <a:xfrm>
            <a:off x="2124000" y="907920"/>
            <a:ext cx="6335640" cy="21744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2700360" y="1341360"/>
            <a:ext cx="1152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Gautami"/>
              </a:rPr>
              <a:t>ТЕМА :</a:t>
            </a:r>
            <a:endParaRPr b="1" i="1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Gautami"/>
              <a:ea typeface="Gautami"/>
            </a:endParaRPr>
          </a:p>
        </p:txBody>
      </p:sp>
      <p:sp>
        <p:nvSpPr>
          <p:cNvPr id="253" name=""/>
          <p:cNvSpPr/>
          <p:nvPr/>
        </p:nvSpPr>
        <p:spPr>
          <a:xfrm>
            <a:off x="755640" y="981000"/>
            <a:ext cx="720720" cy="647640"/>
          </a:xfrm>
          <a:custGeom>
            <a:avLst/>
            <a:gdLst>
              <a:gd name="textAreaLeft" fmla="*/ 92160 w 720720"/>
              <a:gd name="textAreaRight" fmla="*/ 628560 w 720720"/>
              <a:gd name="textAreaTop" fmla="*/ 92160 h 647640"/>
              <a:gd name="textAreaBottom" fmla="*/ 5554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0961" y="3075"/>
                </a:lnTo>
                <a:lnTo>
                  <a:pt x="3075" y="3075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0961" y="18525"/>
                </a:lnTo>
                <a:lnTo>
                  <a:pt x="20961" y="3075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3075" y="18525"/>
                </a:lnTo>
                <a:lnTo>
                  <a:pt x="20961" y="18525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3075" y="3075"/>
                </a:lnTo>
                <a:lnTo>
                  <a:pt x="3075" y="18525"/>
                </a:lnTo>
                <a:close/>
              </a:path>
            </a:pathLst>
          </a:custGeom>
          <a:gradFill rotWithShape="0">
            <a:gsLst>
              <a:gs pos="0">
                <a:srgbClr val="97cd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 rot="10800000">
            <a:off x="249840" y="1773360"/>
            <a:ext cx="8569080" cy="2016000"/>
          </a:xfrm>
          <a:prstGeom prst="wedgeEllipseCallout">
            <a:avLst>
              <a:gd name="adj1" fmla="val -35810"/>
              <a:gd name="adj2" fmla="val 55509"/>
            </a:avLst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16200000"/>
          </a:gradFill>
          <a:ln w="5724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Эту кислоту называют «хлебом химической промышленности», «купоросным маслом», ею заполняют аккумуляторы автомоби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8" action="ppaction://hlinksldjump"/>
          </p:cNvPr>
          <p:cNvSpPr/>
          <p:nvPr/>
        </p:nvSpPr>
        <p:spPr>
          <a:xfrm>
            <a:off x="6948360" y="6237360"/>
            <a:ext cx="1979640" cy="433440"/>
          </a:xfrm>
          <a:prstGeom prst="bevel">
            <a:avLst>
              <a:gd name="adj" fmla="val 125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должить иг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716360" y="907920"/>
            <a:ext cx="352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Arial"/>
              </a:rPr>
              <a:t>« Кислот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385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9" dur="385" fill="hold"/>
                                        <p:tgtEl>
                                          <p:spTgt spid="2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1" dur="385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3" dur="385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>
            <a:hlinkClick r:id="rId2" action="ppaction://hlinksldjump"/>
          </p:cNvPr>
          <p:cNvSpPr/>
          <p:nvPr/>
        </p:nvSpPr>
        <p:spPr>
          <a:xfrm>
            <a:off x="2627280" y="4581360"/>
            <a:ext cx="4032360" cy="1800360"/>
          </a:xfrm>
          <a:prstGeom prst="ellipse">
            <a:avLst/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5400000"/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;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>
            <a:hlinkClick r:id="rId3" action="ppaction://hlinksldjump"/>
          </p:cNvPr>
          <p:cNvSpPr/>
          <p:nvPr/>
        </p:nvSpPr>
        <p:spPr>
          <a:xfrm>
            <a:off x="4859280" y="2997360"/>
            <a:ext cx="4284720" cy="1511280"/>
          </a:xfrm>
          <a:prstGeom prst="ellipse">
            <a:avLst/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5400000"/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;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>
            <a:hlinkClick r:id="rId4" action="ppaction://hlinksldjump"/>
          </p:cNvPr>
          <p:cNvSpPr/>
          <p:nvPr/>
        </p:nvSpPr>
        <p:spPr>
          <a:xfrm>
            <a:off x="324000" y="3068640"/>
            <a:ext cx="4319280" cy="1440000"/>
          </a:xfrm>
          <a:prstGeom prst="ellipse">
            <a:avLst/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5400000"/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HAs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; Al(OH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68360" y="404640"/>
            <a:ext cx="12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ladimir Script"/>
              </a:rPr>
              <a:t>ИГРА</a:t>
            </a:r>
            <a:endParaRPr b="1" lang="en-US" sz="44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ladimir Script"/>
              <a:ea typeface="Vladimir Script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979640" y="404640"/>
            <a:ext cx="1871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ХОЧУ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067280" y="333360"/>
            <a:ext cx="1368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СЁ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5724360" y="404640"/>
            <a:ext cx="2665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НАТЬ!"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7"/>
          <a:stretch/>
        </p:blipFill>
        <p:spPr>
          <a:xfrm>
            <a:off x="2124000" y="907920"/>
            <a:ext cx="6335640" cy="21744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 txBox="1"/>
          <p:nvPr/>
        </p:nvSpPr>
        <p:spPr>
          <a:xfrm>
            <a:off x="2700360" y="1341360"/>
            <a:ext cx="1152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Gautami"/>
              </a:rPr>
              <a:t>ТЕМА :</a:t>
            </a:r>
            <a:endParaRPr b="1" i="1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Gautami"/>
              <a:ea typeface="Gautami"/>
            </a:endParaRPr>
          </a:p>
        </p:txBody>
      </p:sp>
      <p:sp>
        <p:nvSpPr>
          <p:cNvPr id="266" name=""/>
          <p:cNvSpPr/>
          <p:nvPr/>
        </p:nvSpPr>
        <p:spPr>
          <a:xfrm>
            <a:off x="755640" y="981000"/>
            <a:ext cx="720720" cy="647640"/>
          </a:xfrm>
          <a:custGeom>
            <a:avLst/>
            <a:gdLst>
              <a:gd name="textAreaLeft" fmla="*/ 92160 w 720720"/>
              <a:gd name="textAreaRight" fmla="*/ 628560 w 720720"/>
              <a:gd name="textAreaTop" fmla="*/ 92160 h 647640"/>
              <a:gd name="textAreaBottom" fmla="*/ 5554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0961" y="3075"/>
                </a:lnTo>
                <a:lnTo>
                  <a:pt x="3075" y="3075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0961" y="18525"/>
                </a:lnTo>
                <a:lnTo>
                  <a:pt x="20961" y="3075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3075" y="18525"/>
                </a:lnTo>
                <a:lnTo>
                  <a:pt x="20961" y="18525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3075" y="3075"/>
                </a:lnTo>
                <a:lnTo>
                  <a:pt x="3075" y="18525"/>
                </a:lnTo>
                <a:close/>
              </a:path>
            </a:pathLst>
          </a:custGeom>
          <a:gradFill rotWithShape="0">
            <a:gsLst>
              <a:gs pos="0">
                <a:srgbClr val="97cd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 rot="10800000">
            <a:off x="249840" y="1844640"/>
            <a:ext cx="8497800" cy="1152720"/>
          </a:xfrm>
          <a:prstGeom prst="wedgeEllipseCallout">
            <a:avLst>
              <a:gd name="adj1" fmla="val -35824"/>
              <a:gd name="adj2" fmla="val 65009"/>
            </a:avLst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16200000"/>
          </a:gradFill>
          <a:ln w="5724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Набор кислородосодержащих кислот- э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>
            <a:hlinkClick r:id="rId8" action="ppaction://hlinksldjump"/>
          </p:cNvPr>
          <p:cNvSpPr/>
          <p:nvPr/>
        </p:nvSpPr>
        <p:spPr>
          <a:xfrm>
            <a:off x="6948360" y="6237360"/>
            <a:ext cx="1979640" cy="433440"/>
          </a:xfrm>
          <a:prstGeom prst="bevel">
            <a:avLst>
              <a:gd name="adj" fmla="val 125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должить иг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32360" y="112536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Arial"/>
              </a:rPr>
              <a:t>« Кислоты»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385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1" dur="385" fill="hold"/>
                                        <p:tgtEl>
                                          <p:spTgt spid="2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3" dur="385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5" dur="385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>
            <a:hlinkClick r:id="rId2" action="ppaction://hlinksldjump"/>
          </p:cNvPr>
          <p:cNvSpPr/>
          <p:nvPr/>
        </p:nvSpPr>
        <p:spPr>
          <a:xfrm>
            <a:off x="250920" y="3860640"/>
            <a:ext cx="4176720" cy="1295640"/>
          </a:xfrm>
          <a:prstGeom prst="ellipse">
            <a:avLst/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5400000"/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>
            <a:hlinkClick r:id="rId3" action="ppaction://hlinksldjump"/>
          </p:cNvPr>
          <p:cNvSpPr/>
          <p:nvPr/>
        </p:nvSpPr>
        <p:spPr>
          <a:xfrm>
            <a:off x="2124000" y="5157720"/>
            <a:ext cx="4969080" cy="1467000"/>
          </a:xfrm>
          <a:prstGeom prst="ellipse">
            <a:avLst/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5400000"/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>
            <a:hlinkClick r:id="rId4" action="ppaction://hlinksldjump"/>
          </p:cNvPr>
          <p:cNvSpPr/>
          <p:nvPr/>
        </p:nvSpPr>
        <p:spPr>
          <a:xfrm>
            <a:off x="4643280" y="3860640"/>
            <a:ext cx="4105440" cy="1297080"/>
          </a:xfrm>
          <a:prstGeom prst="ellipse">
            <a:avLst/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5400000"/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68360" y="404640"/>
            <a:ext cx="12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ladimir Script"/>
              </a:rPr>
              <a:t>ИГРА</a:t>
            </a:r>
            <a:endParaRPr b="1" lang="en-US" sz="44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ladimir Script"/>
              <a:ea typeface="Vladimir Script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979640" y="404640"/>
            <a:ext cx="1871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ХОЧУ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067280" y="333360"/>
            <a:ext cx="1368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СЁ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724360" y="404640"/>
            <a:ext cx="2665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НАТЬ!"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7"/>
          <a:stretch/>
        </p:blipFill>
        <p:spPr>
          <a:xfrm>
            <a:off x="2124000" y="907920"/>
            <a:ext cx="6335640" cy="21744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 txBox="1"/>
          <p:nvPr/>
        </p:nvSpPr>
        <p:spPr>
          <a:xfrm>
            <a:off x="2700360" y="1341360"/>
            <a:ext cx="1152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Gautami"/>
              </a:rPr>
              <a:t>ТЕМА :</a:t>
            </a:r>
            <a:endParaRPr b="1" i="1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Gautami"/>
              <a:ea typeface="Gautami"/>
            </a:endParaRPr>
          </a:p>
        </p:txBody>
      </p:sp>
      <p:sp>
        <p:nvSpPr>
          <p:cNvPr id="279" name=""/>
          <p:cNvSpPr/>
          <p:nvPr/>
        </p:nvSpPr>
        <p:spPr>
          <a:xfrm>
            <a:off x="755640" y="981000"/>
            <a:ext cx="720720" cy="647640"/>
          </a:xfrm>
          <a:custGeom>
            <a:avLst/>
            <a:gdLst>
              <a:gd name="textAreaLeft" fmla="*/ 92160 w 720720"/>
              <a:gd name="textAreaRight" fmla="*/ 628560 w 720720"/>
              <a:gd name="textAreaTop" fmla="*/ 92160 h 647640"/>
              <a:gd name="textAreaBottom" fmla="*/ 5554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0961" y="3075"/>
                </a:lnTo>
                <a:lnTo>
                  <a:pt x="3075" y="3075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0961" y="18525"/>
                </a:lnTo>
                <a:lnTo>
                  <a:pt x="20961" y="3075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3075" y="18525"/>
                </a:lnTo>
                <a:lnTo>
                  <a:pt x="20961" y="18525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3075" y="3075"/>
                </a:lnTo>
                <a:lnTo>
                  <a:pt x="3075" y="18525"/>
                </a:lnTo>
                <a:close/>
              </a:path>
            </a:pathLst>
          </a:custGeom>
          <a:gradFill rotWithShape="0">
            <a:gsLst>
              <a:gs pos="0">
                <a:srgbClr val="97cd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 rot="10800000">
            <a:off x="249840" y="1988640"/>
            <a:ext cx="8569080" cy="1800360"/>
          </a:xfrm>
          <a:prstGeom prst="wedgeEllipseCallout">
            <a:avLst>
              <a:gd name="adj1" fmla="val -35773"/>
              <a:gd name="adj2" fmla="val 68162"/>
            </a:avLst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16200000"/>
          </a:gradFill>
          <a:ln w="5724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 Narrow"/>
              </a:rPr>
              <a:t>Формула сернистой кислоты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>
            <a:hlinkClick r:id="rId8" action="ppaction://hlinksldjump"/>
          </p:cNvPr>
          <p:cNvSpPr/>
          <p:nvPr/>
        </p:nvSpPr>
        <p:spPr>
          <a:xfrm>
            <a:off x="7020000" y="6237360"/>
            <a:ext cx="1944720" cy="433440"/>
          </a:xfrm>
          <a:prstGeom prst="bevel">
            <a:avLst>
              <a:gd name="adj" fmla="val 125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должить иг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356000" y="105264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Arial"/>
              </a:rPr>
              <a:t>« Кислоты»</a:t>
            </a: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5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385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3" dur="385" fill="hold"/>
                                        <p:tgtEl>
                                          <p:spTgt spid="2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5" dur="385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7" dur="385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>
            <a:hlinkClick r:id="rId2" action="ppaction://hlinksldjump"/>
          </p:cNvPr>
          <p:cNvSpPr/>
          <p:nvPr/>
        </p:nvSpPr>
        <p:spPr>
          <a:xfrm>
            <a:off x="2627280" y="5562720"/>
            <a:ext cx="4103640" cy="1295280"/>
          </a:xfrm>
          <a:prstGeom prst="ellipse">
            <a:avLst/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5400000"/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>
            <a:hlinkClick r:id="rId3" action="ppaction://hlinksldjump"/>
          </p:cNvPr>
          <p:cNvSpPr/>
          <p:nvPr/>
        </p:nvSpPr>
        <p:spPr>
          <a:xfrm>
            <a:off x="4716360" y="4076640"/>
            <a:ext cx="4103640" cy="1295640"/>
          </a:xfrm>
          <a:prstGeom prst="ellipse">
            <a:avLst/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5400000"/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>
            <a:hlinkClick r:id="rId4" action="ppaction://hlinksldjump"/>
          </p:cNvPr>
          <p:cNvSpPr/>
          <p:nvPr/>
        </p:nvSpPr>
        <p:spPr>
          <a:xfrm>
            <a:off x="395280" y="4149720"/>
            <a:ext cx="4103640" cy="1295280"/>
          </a:xfrm>
          <a:prstGeom prst="ellipse">
            <a:avLst/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5400000"/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68360" y="404640"/>
            <a:ext cx="12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ladimir Script"/>
              </a:rPr>
              <a:t>ИГРА</a:t>
            </a:r>
            <a:endParaRPr b="1" lang="en-US" sz="44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ladimir Script"/>
              <a:ea typeface="Vladimir Script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1979640" y="404640"/>
            <a:ext cx="1871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ХОЧУ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067280" y="333360"/>
            <a:ext cx="1368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СЁ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5724360" y="404640"/>
            <a:ext cx="2665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НАТЬ!"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7"/>
          <a:stretch/>
        </p:blipFill>
        <p:spPr>
          <a:xfrm>
            <a:off x="2124000" y="907920"/>
            <a:ext cx="6335640" cy="2174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 txBox="1"/>
          <p:nvPr/>
        </p:nvSpPr>
        <p:spPr>
          <a:xfrm>
            <a:off x="2700360" y="1341360"/>
            <a:ext cx="1152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Gautami"/>
              </a:rPr>
              <a:t>ТЕМА :</a:t>
            </a:r>
            <a:endParaRPr b="1" i="1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Gautami"/>
              <a:ea typeface="Gautami"/>
            </a:endParaRPr>
          </a:p>
        </p:txBody>
      </p:sp>
      <p:sp>
        <p:nvSpPr>
          <p:cNvPr id="292" name=""/>
          <p:cNvSpPr/>
          <p:nvPr/>
        </p:nvSpPr>
        <p:spPr>
          <a:xfrm>
            <a:off x="755640" y="981000"/>
            <a:ext cx="720720" cy="647640"/>
          </a:xfrm>
          <a:custGeom>
            <a:avLst/>
            <a:gdLst>
              <a:gd name="textAreaLeft" fmla="*/ 92160 w 720720"/>
              <a:gd name="textAreaRight" fmla="*/ 628560 w 720720"/>
              <a:gd name="textAreaTop" fmla="*/ 92160 h 647640"/>
              <a:gd name="textAreaBottom" fmla="*/ 5554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0961" y="3075"/>
                </a:lnTo>
                <a:lnTo>
                  <a:pt x="3075" y="3075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0961" y="18525"/>
                </a:lnTo>
                <a:lnTo>
                  <a:pt x="20961" y="3075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3075" y="18525"/>
                </a:lnTo>
                <a:lnTo>
                  <a:pt x="20961" y="18525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3075" y="3075"/>
                </a:lnTo>
                <a:lnTo>
                  <a:pt x="3075" y="18525"/>
                </a:lnTo>
                <a:close/>
              </a:path>
            </a:pathLst>
          </a:custGeom>
          <a:gradFill rotWithShape="0">
            <a:gsLst>
              <a:gs pos="0">
                <a:srgbClr val="97cd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 rot="10800000">
            <a:off x="249840" y="1988640"/>
            <a:ext cx="8569080" cy="2016360"/>
          </a:xfrm>
          <a:prstGeom prst="wedgeEllipseCallout">
            <a:avLst>
              <a:gd name="adj1" fmla="val -35791"/>
              <a:gd name="adj2" fmla="val 66217"/>
            </a:avLst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16200000"/>
          </a:gradFill>
          <a:ln w="5724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 Narrow"/>
              </a:rPr>
              <a:t>Соли </a:t>
            </a:r>
            <a:r>
              <a:rPr b="1" i="1" lang="en-US" sz="2900" spc="-1" strike="noStrike">
                <a:solidFill>
                  <a:srgbClr val="000000"/>
                </a:solidFill>
                <a:latin typeface="Arial Narrow"/>
              </a:rPr>
              <a:t>сульфиды</a:t>
            </a:r>
            <a:r>
              <a:rPr b="1" lang="en-US" sz="2900" spc="-1" strike="noStrike">
                <a:solidFill>
                  <a:srgbClr val="000000"/>
                </a:solidFill>
                <a:latin typeface="Arial Narrow"/>
              </a:rPr>
              <a:t> образует кислота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>
            <a:hlinkClick r:id="rId8" action="ppaction://hlinksldjump"/>
          </p:cNvPr>
          <p:cNvSpPr/>
          <p:nvPr/>
        </p:nvSpPr>
        <p:spPr>
          <a:xfrm>
            <a:off x="6948360" y="6237360"/>
            <a:ext cx="1979640" cy="433440"/>
          </a:xfrm>
          <a:prstGeom prst="bevel">
            <a:avLst>
              <a:gd name="adj" fmla="val 125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должить иг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500720" y="1052640"/>
            <a:ext cx="39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Arial"/>
              </a:rPr>
              <a:t>« Кислоты»</a:t>
            </a: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385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5" dur="385" fill="hold"/>
                                        <p:tgtEl>
                                          <p:spTgt spid="2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7" dur="385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9" dur="385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95280" y="476280"/>
            <a:ext cx="1297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ladimir Script"/>
              </a:rPr>
              <a:t>ИГРА</a:t>
            </a:r>
            <a:endParaRPr b="1" lang="en-US" sz="44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ladimir Script"/>
              <a:ea typeface="Vladimir Scrip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979640" y="476280"/>
            <a:ext cx="1871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ХОЧУ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067280" y="404640"/>
            <a:ext cx="1512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СЁ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796000" y="476280"/>
            <a:ext cx="2736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НАТЬ!"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2124000" y="1125360"/>
            <a:ext cx="6335640" cy="358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24000" y="1844640"/>
            <a:ext cx="2952720" cy="647640"/>
          </a:xfrm>
          <a:custGeom>
            <a:avLst/>
            <a:gdLst>
              <a:gd name="textAreaLeft" fmla="*/ 92160 w 2952720"/>
              <a:gd name="textAreaRight" fmla="*/ 2860560 w 2952720"/>
              <a:gd name="textAreaTop" fmla="*/ 92160 h 647640"/>
              <a:gd name="textAreaBottom" fmla="*/ 555480 h 647640"/>
            </a:gdLst>
            <a:ahLst/>
            <a:rect l="textAreaLeft" t="textAreaTop" r="textAreaRight" b="textAreaBottom"/>
            <a:pathLst>
              <a:path w="98436" h="21600">
                <a:moveTo>
                  <a:pt x="0" y="0"/>
                </a:moveTo>
                <a:lnTo>
                  <a:pt x="98436" y="0"/>
                </a:lnTo>
                <a:lnTo>
                  <a:pt x="98436" y="21600"/>
                </a:lnTo>
                <a:lnTo>
                  <a:pt x="0" y="21600"/>
                </a:lnTo>
                <a:close/>
              </a:path>
              <a:path fill="lightenLess" w="98436" h="21600">
                <a:moveTo>
                  <a:pt x="0" y="0"/>
                </a:moveTo>
                <a:lnTo>
                  <a:pt x="98436" y="0"/>
                </a:lnTo>
                <a:lnTo>
                  <a:pt x="95361" y="3075"/>
                </a:lnTo>
                <a:lnTo>
                  <a:pt x="3075" y="3075"/>
                </a:lnTo>
                <a:close/>
              </a:path>
              <a:path fill="darken" w="98436" h="21600">
                <a:moveTo>
                  <a:pt x="98436" y="0"/>
                </a:moveTo>
                <a:lnTo>
                  <a:pt x="98436" y="21600"/>
                </a:lnTo>
                <a:lnTo>
                  <a:pt x="95361" y="18525"/>
                </a:lnTo>
                <a:lnTo>
                  <a:pt x="95361" y="3075"/>
                </a:lnTo>
                <a:close/>
              </a:path>
              <a:path fill="darkenLess" w="98436" h="21600">
                <a:moveTo>
                  <a:pt x="98436" y="21600"/>
                </a:moveTo>
                <a:lnTo>
                  <a:pt x="0" y="21600"/>
                </a:lnTo>
                <a:lnTo>
                  <a:pt x="3075" y="18525"/>
                </a:lnTo>
                <a:lnTo>
                  <a:pt x="95361" y="18525"/>
                </a:lnTo>
                <a:close/>
              </a:path>
              <a:path fill="lighten" w="98436" h="21600">
                <a:moveTo>
                  <a:pt x="0" y="21600"/>
                </a:moveTo>
                <a:lnTo>
                  <a:pt x="0" y="0"/>
                </a:lnTo>
                <a:lnTo>
                  <a:pt x="3075" y="3075"/>
                </a:lnTo>
                <a:lnTo>
                  <a:pt x="3075" y="18525"/>
                </a:lnTo>
                <a:close/>
              </a:path>
            </a:pathLst>
          </a:custGeom>
          <a:gradFill rotWithShape="0">
            <a:gsLst>
              <a:gs pos="0">
                <a:srgbClr val="97cdcc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кс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2708280"/>
            <a:ext cx="2952720" cy="647640"/>
          </a:xfrm>
          <a:custGeom>
            <a:avLst/>
            <a:gdLst>
              <a:gd name="textAreaLeft" fmla="*/ 92160 w 2952720"/>
              <a:gd name="textAreaRight" fmla="*/ 2860560 w 2952720"/>
              <a:gd name="textAreaTop" fmla="*/ 92160 h 647640"/>
              <a:gd name="textAreaBottom" fmla="*/ 555480 h 647640"/>
            </a:gdLst>
            <a:ahLst/>
            <a:rect l="textAreaLeft" t="textAreaTop" r="textAreaRight" b="textAreaBottom"/>
            <a:pathLst>
              <a:path w="98436" h="21600">
                <a:moveTo>
                  <a:pt x="0" y="0"/>
                </a:moveTo>
                <a:lnTo>
                  <a:pt x="98436" y="0"/>
                </a:lnTo>
                <a:lnTo>
                  <a:pt x="98436" y="21600"/>
                </a:lnTo>
                <a:lnTo>
                  <a:pt x="0" y="21600"/>
                </a:lnTo>
                <a:close/>
              </a:path>
              <a:path fill="lightenLess" w="98436" h="21600">
                <a:moveTo>
                  <a:pt x="0" y="0"/>
                </a:moveTo>
                <a:lnTo>
                  <a:pt x="98436" y="0"/>
                </a:lnTo>
                <a:lnTo>
                  <a:pt x="95361" y="3075"/>
                </a:lnTo>
                <a:lnTo>
                  <a:pt x="3075" y="3075"/>
                </a:lnTo>
                <a:close/>
              </a:path>
              <a:path fill="darken" w="98436" h="21600">
                <a:moveTo>
                  <a:pt x="98436" y="0"/>
                </a:moveTo>
                <a:lnTo>
                  <a:pt x="98436" y="21600"/>
                </a:lnTo>
                <a:lnTo>
                  <a:pt x="95361" y="18525"/>
                </a:lnTo>
                <a:lnTo>
                  <a:pt x="95361" y="3075"/>
                </a:lnTo>
                <a:close/>
              </a:path>
              <a:path fill="darkenLess" w="98436" h="21600">
                <a:moveTo>
                  <a:pt x="98436" y="21600"/>
                </a:moveTo>
                <a:lnTo>
                  <a:pt x="0" y="21600"/>
                </a:lnTo>
                <a:lnTo>
                  <a:pt x="3075" y="18525"/>
                </a:lnTo>
                <a:lnTo>
                  <a:pt x="95361" y="18525"/>
                </a:lnTo>
                <a:close/>
              </a:path>
              <a:path fill="lighten" w="98436" h="21600">
                <a:moveTo>
                  <a:pt x="0" y="21600"/>
                </a:moveTo>
                <a:lnTo>
                  <a:pt x="0" y="0"/>
                </a:lnTo>
                <a:lnTo>
                  <a:pt x="3075" y="3075"/>
                </a:lnTo>
                <a:lnTo>
                  <a:pt x="3075" y="18525"/>
                </a:lnTo>
                <a:close/>
              </a:path>
            </a:pathLst>
          </a:custGeom>
          <a:gradFill rotWithShape="0">
            <a:gsLst>
              <a:gs pos="0">
                <a:srgbClr val="97cdcc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сн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3573360"/>
            <a:ext cx="2952720" cy="647640"/>
          </a:xfrm>
          <a:custGeom>
            <a:avLst/>
            <a:gdLst>
              <a:gd name="textAreaLeft" fmla="*/ 92160 w 2952720"/>
              <a:gd name="textAreaRight" fmla="*/ 2860560 w 2952720"/>
              <a:gd name="textAreaTop" fmla="*/ 92160 h 647640"/>
              <a:gd name="textAreaBottom" fmla="*/ 555480 h 647640"/>
            </a:gdLst>
            <a:ahLst/>
            <a:rect l="textAreaLeft" t="textAreaTop" r="textAreaRight" b="textAreaBottom"/>
            <a:pathLst>
              <a:path w="98436" h="21600">
                <a:moveTo>
                  <a:pt x="0" y="0"/>
                </a:moveTo>
                <a:lnTo>
                  <a:pt x="98436" y="0"/>
                </a:lnTo>
                <a:lnTo>
                  <a:pt x="98436" y="21600"/>
                </a:lnTo>
                <a:lnTo>
                  <a:pt x="0" y="21600"/>
                </a:lnTo>
                <a:close/>
              </a:path>
              <a:path fill="lightenLess" w="98436" h="21600">
                <a:moveTo>
                  <a:pt x="0" y="0"/>
                </a:moveTo>
                <a:lnTo>
                  <a:pt x="98436" y="0"/>
                </a:lnTo>
                <a:lnTo>
                  <a:pt x="95361" y="3075"/>
                </a:lnTo>
                <a:lnTo>
                  <a:pt x="3075" y="3075"/>
                </a:lnTo>
                <a:close/>
              </a:path>
              <a:path fill="darken" w="98436" h="21600">
                <a:moveTo>
                  <a:pt x="98436" y="0"/>
                </a:moveTo>
                <a:lnTo>
                  <a:pt x="98436" y="21600"/>
                </a:lnTo>
                <a:lnTo>
                  <a:pt x="95361" y="18525"/>
                </a:lnTo>
                <a:lnTo>
                  <a:pt x="95361" y="3075"/>
                </a:lnTo>
                <a:close/>
              </a:path>
              <a:path fill="darkenLess" w="98436" h="21600">
                <a:moveTo>
                  <a:pt x="98436" y="21600"/>
                </a:moveTo>
                <a:lnTo>
                  <a:pt x="0" y="21600"/>
                </a:lnTo>
                <a:lnTo>
                  <a:pt x="3075" y="18525"/>
                </a:lnTo>
                <a:lnTo>
                  <a:pt x="95361" y="18525"/>
                </a:lnTo>
                <a:close/>
              </a:path>
              <a:path fill="lighten" w="98436" h="21600">
                <a:moveTo>
                  <a:pt x="0" y="21600"/>
                </a:moveTo>
                <a:lnTo>
                  <a:pt x="0" y="0"/>
                </a:lnTo>
                <a:lnTo>
                  <a:pt x="3075" y="3075"/>
                </a:lnTo>
                <a:lnTo>
                  <a:pt x="3075" y="18525"/>
                </a:lnTo>
                <a:close/>
              </a:path>
            </a:pathLst>
          </a:custGeom>
          <a:gradFill rotWithShape="0">
            <a:gsLst>
              <a:gs pos="0">
                <a:srgbClr val="97cdcc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исл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4437000"/>
            <a:ext cx="2952720" cy="647640"/>
          </a:xfrm>
          <a:custGeom>
            <a:avLst/>
            <a:gdLst>
              <a:gd name="textAreaLeft" fmla="*/ 92160 w 2952720"/>
              <a:gd name="textAreaRight" fmla="*/ 2860560 w 2952720"/>
              <a:gd name="textAreaTop" fmla="*/ 92160 h 647640"/>
              <a:gd name="textAreaBottom" fmla="*/ 555480 h 647640"/>
            </a:gdLst>
            <a:ahLst/>
            <a:rect l="textAreaLeft" t="textAreaTop" r="textAreaRight" b="textAreaBottom"/>
            <a:pathLst>
              <a:path w="98436" h="21600">
                <a:moveTo>
                  <a:pt x="0" y="0"/>
                </a:moveTo>
                <a:lnTo>
                  <a:pt x="98436" y="0"/>
                </a:lnTo>
                <a:lnTo>
                  <a:pt x="98436" y="21600"/>
                </a:lnTo>
                <a:lnTo>
                  <a:pt x="0" y="21600"/>
                </a:lnTo>
                <a:close/>
              </a:path>
              <a:path fill="lightenLess" w="98436" h="21600">
                <a:moveTo>
                  <a:pt x="0" y="0"/>
                </a:moveTo>
                <a:lnTo>
                  <a:pt x="98436" y="0"/>
                </a:lnTo>
                <a:lnTo>
                  <a:pt x="95361" y="3075"/>
                </a:lnTo>
                <a:lnTo>
                  <a:pt x="3075" y="3075"/>
                </a:lnTo>
                <a:close/>
              </a:path>
              <a:path fill="darken" w="98436" h="21600">
                <a:moveTo>
                  <a:pt x="98436" y="0"/>
                </a:moveTo>
                <a:lnTo>
                  <a:pt x="98436" y="21600"/>
                </a:lnTo>
                <a:lnTo>
                  <a:pt x="95361" y="18525"/>
                </a:lnTo>
                <a:lnTo>
                  <a:pt x="95361" y="3075"/>
                </a:lnTo>
                <a:close/>
              </a:path>
              <a:path fill="darkenLess" w="98436" h="21600">
                <a:moveTo>
                  <a:pt x="98436" y="21600"/>
                </a:moveTo>
                <a:lnTo>
                  <a:pt x="0" y="21600"/>
                </a:lnTo>
                <a:lnTo>
                  <a:pt x="3075" y="18525"/>
                </a:lnTo>
                <a:lnTo>
                  <a:pt x="95361" y="18525"/>
                </a:lnTo>
                <a:close/>
              </a:path>
              <a:path fill="lighten" w="98436" h="21600">
                <a:moveTo>
                  <a:pt x="0" y="21600"/>
                </a:moveTo>
                <a:lnTo>
                  <a:pt x="0" y="0"/>
                </a:lnTo>
                <a:lnTo>
                  <a:pt x="3075" y="3075"/>
                </a:lnTo>
                <a:lnTo>
                  <a:pt x="3075" y="18525"/>
                </a:lnTo>
                <a:close/>
              </a:path>
            </a:pathLst>
          </a:custGeom>
          <a:gradFill rotWithShape="0">
            <a:gsLst>
              <a:gs pos="0">
                <a:srgbClr val="97cdcc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5373720"/>
            <a:ext cx="2952720" cy="647640"/>
          </a:xfrm>
          <a:custGeom>
            <a:avLst/>
            <a:gdLst>
              <a:gd name="textAreaLeft" fmla="*/ 92160 w 2952720"/>
              <a:gd name="textAreaRight" fmla="*/ 2860560 w 2952720"/>
              <a:gd name="textAreaTop" fmla="*/ 92160 h 647640"/>
              <a:gd name="textAreaBottom" fmla="*/ 555480 h 647640"/>
            </a:gdLst>
            <a:ahLst/>
            <a:rect l="textAreaLeft" t="textAreaTop" r="textAreaRight" b="textAreaBottom"/>
            <a:pathLst>
              <a:path w="98436" h="21600">
                <a:moveTo>
                  <a:pt x="0" y="0"/>
                </a:moveTo>
                <a:lnTo>
                  <a:pt x="98436" y="0"/>
                </a:lnTo>
                <a:lnTo>
                  <a:pt x="98436" y="21600"/>
                </a:lnTo>
                <a:lnTo>
                  <a:pt x="0" y="21600"/>
                </a:lnTo>
                <a:close/>
              </a:path>
              <a:path fill="lightenLess" w="98436" h="21600">
                <a:moveTo>
                  <a:pt x="0" y="0"/>
                </a:moveTo>
                <a:lnTo>
                  <a:pt x="98436" y="0"/>
                </a:lnTo>
                <a:lnTo>
                  <a:pt x="95361" y="3075"/>
                </a:lnTo>
                <a:lnTo>
                  <a:pt x="3075" y="3075"/>
                </a:lnTo>
                <a:close/>
              </a:path>
              <a:path fill="darken" w="98436" h="21600">
                <a:moveTo>
                  <a:pt x="98436" y="0"/>
                </a:moveTo>
                <a:lnTo>
                  <a:pt x="98436" y="21600"/>
                </a:lnTo>
                <a:lnTo>
                  <a:pt x="95361" y="18525"/>
                </a:lnTo>
                <a:lnTo>
                  <a:pt x="95361" y="3075"/>
                </a:lnTo>
                <a:close/>
              </a:path>
              <a:path fill="darkenLess" w="98436" h="21600">
                <a:moveTo>
                  <a:pt x="98436" y="21600"/>
                </a:moveTo>
                <a:lnTo>
                  <a:pt x="0" y="21600"/>
                </a:lnTo>
                <a:lnTo>
                  <a:pt x="3075" y="18525"/>
                </a:lnTo>
                <a:lnTo>
                  <a:pt x="95361" y="18525"/>
                </a:lnTo>
                <a:close/>
              </a:path>
              <a:path fill="lighten" w="98436" h="21600">
                <a:moveTo>
                  <a:pt x="0" y="21600"/>
                </a:moveTo>
                <a:lnTo>
                  <a:pt x="0" y="0"/>
                </a:lnTo>
                <a:lnTo>
                  <a:pt x="3075" y="3075"/>
                </a:lnTo>
                <a:lnTo>
                  <a:pt x="3075" y="18525"/>
                </a:lnTo>
                <a:close/>
              </a:path>
            </a:pathLst>
          </a:custGeom>
          <a:gradFill rotWithShape="0">
            <a:gsLst>
              <a:gs pos="0">
                <a:srgbClr val="97cdcc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Химические велич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rId5" action="ppaction://hlinksldjump"/>
          </p:cNvPr>
          <p:cNvSpPr/>
          <p:nvPr/>
        </p:nvSpPr>
        <p:spPr>
          <a:xfrm>
            <a:off x="4356000" y="3573360"/>
            <a:ext cx="720720" cy="647640"/>
          </a:xfrm>
          <a:custGeom>
            <a:avLst/>
            <a:gdLst>
              <a:gd name="textAreaLeft" fmla="*/ 92160 w 720720"/>
              <a:gd name="textAreaRight" fmla="*/ 628560 w 720720"/>
              <a:gd name="textAreaTop" fmla="*/ 92160 h 647640"/>
              <a:gd name="textAreaBottom" fmla="*/ 5554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0961" y="3075"/>
                </a:lnTo>
                <a:lnTo>
                  <a:pt x="3075" y="3075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0961" y="18525"/>
                </a:lnTo>
                <a:lnTo>
                  <a:pt x="20961" y="3075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3075" y="18525"/>
                </a:lnTo>
                <a:lnTo>
                  <a:pt x="20961" y="18525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3075" y="3075"/>
                </a:lnTo>
                <a:lnTo>
                  <a:pt x="3075" y="18525"/>
                </a:lnTo>
                <a:close/>
              </a:path>
            </a:pathLst>
          </a:custGeom>
          <a:gradFill rotWithShape="0">
            <a:gsLst>
              <a:gs pos="0">
                <a:srgbClr val="000066">
                  <a:alpha val="87058"/>
                </a:srgbClr>
              </a:gs>
              <a:gs pos="100000">
                <a:srgbClr val="333399">
                  <a:alpha val="90196"/>
                </a:srgbClr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99cc00"/>
                </a:solidFill>
                <a:uFillTx/>
                <a:latin typeface="Arial"/>
                <a:hlinkClick r:id="rId6" action="ppaction://hlinksldjump"/>
              </a:rPr>
              <a:t>2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rId7" action="ppaction://hlinksldjump"/>
          </p:cNvPr>
          <p:cNvSpPr/>
          <p:nvPr/>
        </p:nvSpPr>
        <p:spPr>
          <a:xfrm>
            <a:off x="6732720" y="6381720"/>
            <a:ext cx="2411280" cy="476280"/>
          </a:xfrm>
          <a:prstGeom prst="bevel">
            <a:avLst>
              <a:gd name="adj" fmla="val 125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тартовая стра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rId8" action="ppaction://hlinksldjump"/>
          </p:cNvPr>
          <p:cNvSpPr/>
          <p:nvPr/>
        </p:nvSpPr>
        <p:spPr>
          <a:xfrm>
            <a:off x="3492360" y="3573360"/>
            <a:ext cx="720720" cy="647640"/>
          </a:xfrm>
          <a:custGeom>
            <a:avLst/>
            <a:gdLst>
              <a:gd name="textAreaLeft" fmla="*/ 92160 w 720720"/>
              <a:gd name="textAreaRight" fmla="*/ 628560 w 720720"/>
              <a:gd name="textAreaTop" fmla="*/ 92160 h 647640"/>
              <a:gd name="textAreaBottom" fmla="*/ 5554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0961" y="3075"/>
                </a:lnTo>
                <a:lnTo>
                  <a:pt x="3075" y="3075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0961" y="18525"/>
                </a:lnTo>
                <a:lnTo>
                  <a:pt x="20961" y="3075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3075" y="18525"/>
                </a:lnTo>
                <a:lnTo>
                  <a:pt x="20961" y="18525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3075" y="3075"/>
                </a:lnTo>
                <a:lnTo>
                  <a:pt x="3075" y="18525"/>
                </a:lnTo>
                <a:close/>
              </a:path>
            </a:pathLst>
          </a:custGeom>
          <a:gradFill rotWithShape="0">
            <a:gsLst>
              <a:gs pos="0">
                <a:srgbClr val="000066">
                  <a:alpha val="87058"/>
                </a:srgbClr>
              </a:gs>
              <a:gs pos="100000">
                <a:srgbClr val="333399">
                  <a:alpha val="90196"/>
                </a:srgbClr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99cc00"/>
                </a:solidFill>
                <a:uFillTx/>
                <a:latin typeface="Arial"/>
                <a:hlinkClick r:id="rId9" action="ppaction://hlinksldjump"/>
              </a:rPr>
              <a:t>1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rId10" action="ppaction://hlinksldjump"/>
          </p:cNvPr>
          <p:cNvSpPr/>
          <p:nvPr/>
        </p:nvSpPr>
        <p:spPr>
          <a:xfrm>
            <a:off x="5219640" y="3573360"/>
            <a:ext cx="720720" cy="647640"/>
          </a:xfrm>
          <a:custGeom>
            <a:avLst/>
            <a:gdLst>
              <a:gd name="textAreaLeft" fmla="*/ 92160 w 720720"/>
              <a:gd name="textAreaRight" fmla="*/ 628560 w 720720"/>
              <a:gd name="textAreaTop" fmla="*/ 92160 h 647640"/>
              <a:gd name="textAreaBottom" fmla="*/ 5554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0961" y="3075"/>
                </a:lnTo>
                <a:lnTo>
                  <a:pt x="3075" y="3075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0961" y="18525"/>
                </a:lnTo>
                <a:lnTo>
                  <a:pt x="20961" y="3075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3075" y="18525"/>
                </a:lnTo>
                <a:lnTo>
                  <a:pt x="20961" y="18525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3075" y="3075"/>
                </a:lnTo>
                <a:lnTo>
                  <a:pt x="3075" y="18525"/>
                </a:lnTo>
                <a:close/>
              </a:path>
            </a:pathLst>
          </a:custGeom>
          <a:gradFill rotWithShape="0">
            <a:gsLst>
              <a:gs pos="0">
                <a:srgbClr val="000066">
                  <a:alpha val="87058"/>
                </a:srgbClr>
              </a:gs>
              <a:gs pos="100000">
                <a:srgbClr val="333399">
                  <a:alpha val="90196"/>
                </a:srgbClr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99cc00"/>
                </a:solidFill>
                <a:uFillTx/>
                <a:latin typeface="Arial"/>
                <a:hlinkClick r:id="rId11" action="ppaction://hlinksldjump"/>
              </a:rPr>
              <a:t>3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rId12" action="ppaction://hlinksldjump"/>
          </p:cNvPr>
          <p:cNvSpPr/>
          <p:nvPr/>
        </p:nvSpPr>
        <p:spPr>
          <a:xfrm>
            <a:off x="6084720" y="3573360"/>
            <a:ext cx="720720" cy="647640"/>
          </a:xfrm>
          <a:custGeom>
            <a:avLst/>
            <a:gdLst>
              <a:gd name="textAreaLeft" fmla="*/ 92160 w 720720"/>
              <a:gd name="textAreaRight" fmla="*/ 628560 w 720720"/>
              <a:gd name="textAreaTop" fmla="*/ 92160 h 647640"/>
              <a:gd name="textAreaBottom" fmla="*/ 5554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0961" y="3075"/>
                </a:lnTo>
                <a:lnTo>
                  <a:pt x="3075" y="3075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0961" y="18525"/>
                </a:lnTo>
                <a:lnTo>
                  <a:pt x="20961" y="3075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3075" y="18525"/>
                </a:lnTo>
                <a:lnTo>
                  <a:pt x="20961" y="18525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3075" y="3075"/>
                </a:lnTo>
                <a:lnTo>
                  <a:pt x="3075" y="18525"/>
                </a:lnTo>
                <a:close/>
              </a:path>
            </a:pathLst>
          </a:custGeom>
          <a:gradFill rotWithShape="0">
            <a:gsLst>
              <a:gs pos="0">
                <a:srgbClr val="000066">
                  <a:alpha val="87058"/>
                </a:srgbClr>
              </a:gs>
              <a:gs pos="100000">
                <a:srgbClr val="333399">
                  <a:alpha val="90196"/>
                </a:srgbClr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99cc00"/>
                </a:solidFill>
                <a:uFillTx/>
                <a:latin typeface="Arial"/>
                <a:hlinkClick r:id="rId13" action="ppaction://hlinksldjump"/>
              </a:rPr>
              <a:t>4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rId14" action="ppaction://hlinksldjump"/>
          </p:cNvPr>
          <p:cNvSpPr/>
          <p:nvPr/>
        </p:nvSpPr>
        <p:spPr>
          <a:xfrm>
            <a:off x="6948360" y="3573360"/>
            <a:ext cx="720720" cy="647640"/>
          </a:xfrm>
          <a:custGeom>
            <a:avLst/>
            <a:gdLst>
              <a:gd name="textAreaLeft" fmla="*/ 92160 w 720720"/>
              <a:gd name="textAreaRight" fmla="*/ 628560 w 720720"/>
              <a:gd name="textAreaTop" fmla="*/ 92160 h 647640"/>
              <a:gd name="textAreaBottom" fmla="*/ 5554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0961" y="3075"/>
                </a:lnTo>
                <a:lnTo>
                  <a:pt x="3075" y="3075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0961" y="18525"/>
                </a:lnTo>
                <a:lnTo>
                  <a:pt x="20961" y="3075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3075" y="18525"/>
                </a:lnTo>
                <a:lnTo>
                  <a:pt x="20961" y="18525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3075" y="3075"/>
                </a:lnTo>
                <a:lnTo>
                  <a:pt x="3075" y="18525"/>
                </a:lnTo>
                <a:close/>
              </a:path>
            </a:pathLst>
          </a:custGeom>
          <a:gradFill rotWithShape="0">
            <a:gsLst>
              <a:gs pos="0">
                <a:srgbClr val="000066">
                  <a:alpha val="87058"/>
                </a:srgbClr>
              </a:gs>
              <a:gs pos="100000">
                <a:srgbClr val="333399">
                  <a:alpha val="90196"/>
                </a:srgbClr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99cc00"/>
                </a:solidFill>
                <a:uFillTx/>
                <a:latin typeface="Arial"/>
                <a:hlinkClick r:id="rId15" action="ppaction://hlinksldjump"/>
              </a:rPr>
              <a:t>5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rId16" action="ppaction://hlinksldjump"/>
          </p:cNvPr>
          <p:cNvSpPr/>
          <p:nvPr/>
        </p:nvSpPr>
        <p:spPr>
          <a:xfrm>
            <a:off x="7812000" y="3573360"/>
            <a:ext cx="720720" cy="647640"/>
          </a:xfrm>
          <a:custGeom>
            <a:avLst/>
            <a:gdLst>
              <a:gd name="textAreaLeft" fmla="*/ 92160 w 720720"/>
              <a:gd name="textAreaRight" fmla="*/ 628560 w 720720"/>
              <a:gd name="textAreaTop" fmla="*/ 92160 h 647640"/>
              <a:gd name="textAreaBottom" fmla="*/ 5554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0961" y="3075"/>
                </a:lnTo>
                <a:lnTo>
                  <a:pt x="3075" y="3075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0961" y="18525"/>
                </a:lnTo>
                <a:lnTo>
                  <a:pt x="20961" y="3075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3075" y="18525"/>
                </a:lnTo>
                <a:lnTo>
                  <a:pt x="20961" y="18525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3075" y="3075"/>
                </a:lnTo>
                <a:lnTo>
                  <a:pt x="3075" y="18525"/>
                </a:lnTo>
                <a:close/>
              </a:path>
            </a:pathLst>
          </a:custGeom>
          <a:gradFill rotWithShape="0">
            <a:gsLst>
              <a:gs pos="0">
                <a:srgbClr val="000066">
                  <a:alpha val="87058"/>
                </a:srgbClr>
              </a:gs>
              <a:gs pos="100000">
                <a:srgbClr val="333399">
                  <a:alpha val="90196"/>
                </a:srgbClr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99cc00"/>
                </a:solidFill>
                <a:uFillTx/>
                <a:latin typeface="Arial"/>
                <a:hlinkClick r:id="rId17" action="ppaction://hlinksldjump"/>
              </a:rPr>
              <a:t>6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rId18" action="ppaction://hlinksldjump"/>
          </p:cNvPr>
          <p:cNvSpPr/>
          <p:nvPr/>
        </p:nvSpPr>
        <p:spPr>
          <a:xfrm>
            <a:off x="3492360" y="2708280"/>
            <a:ext cx="720720" cy="647640"/>
          </a:xfrm>
          <a:custGeom>
            <a:avLst/>
            <a:gdLst>
              <a:gd name="textAreaLeft" fmla="*/ 92160 w 720720"/>
              <a:gd name="textAreaRight" fmla="*/ 628560 w 720720"/>
              <a:gd name="textAreaTop" fmla="*/ 92160 h 647640"/>
              <a:gd name="textAreaBottom" fmla="*/ 5554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0961" y="3075"/>
                </a:lnTo>
                <a:lnTo>
                  <a:pt x="3075" y="3075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0961" y="18525"/>
                </a:lnTo>
                <a:lnTo>
                  <a:pt x="20961" y="3075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3075" y="18525"/>
                </a:lnTo>
                <a:lnTo>
                  <a:pt x="20961" y="18525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3075" y="3075"/>
                </a:lnTo>
                <a:lnTo>
                  <a:pt x="3075" y="18525"/>
                </a:lnTo>
                <a:close/>
              </a:path>
            </a:pathLst>
          </a:custGeom>
          <a:gradFill rotWithShape="0">
            <a:gsLst>
              <a:gs pos="0">
                <a:srgbClr val="000066">
                  <a:alpha val="87058"/>
                </a:srgbClr>
              </a:gs>
              <a:gs pos="100000">
                <a:srgbClr val="333399">
                  <a:alpha val="90196"/>
                </a:srgbClr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99cc00"/>
                </a:solidFill>
                <a:uFillTx/>
                <a:latin typeface="Arial"/>
                <a:hlinkClick r:id="rId19" action="ppaction://hlinksldjump"/>
              </a:rPr>
              <a:t>1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rId20" action="ppaction://hlinksldjump"/>
          </p:cNvPr>
          <p:cNvSpPr/>
          <p:nvPr/>
        </p:nvSpPr>
        <p:spPr>
          <a:xfrm>
            <a:off x="3492360" y="1844640"/>
            <a:ext cx="720720" cy="647640"/>
          </a:xfrm>
          <a:custGeom>
            <a:avLst/>
            <a:gdLst>
              <a:gd name="textAreaLeft" fmla="*/ 92160 w 720720"/>
              <a:gd name="textAreaRight" fmla="*/ 628560 w 720720"/>
              <a:gd name="textAreaTop" fmla="*/ 92160 h 647640"/>
              <a:gd name="textAreaBottom" fmla="*/ 5554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0961" y="3075"/>
                </a:lnTo>
                <a:lnTo>
                  <a:pt x="3075" y="3075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0961" y="18525"/>
                </a:lnTo>
                <a:lnTo>
                  <a:pt x="20961" y="3075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3075" y="18525"/>
                </a:lnTo>
                <a:lnTo>
                  <a:pt x="20961" y="18525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3075" y="3075"/>
                </a:lnTo>
                <a:lnTo>
                  <a:pt x="3075" y="18525"/>
                </a:lnTo>
                <a:close/>
              </a:path>
            </a:pathLst>
          </a:custGeom>
          <a:gradFill rotWithShape="0">
            <a:gsLst>
              <a:gs pos="0">
                <a:srgbClr val="000066">
                  <a:alpha val="87058"/>
                </a:srgbClr>
              </a:gs>
              <a:gs pos="100000">
                <a:srgbClr val="333399">
                  <a:alpha val="90196"/>
                </a:srgbClr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99cc00"/>
                </a:solidFill>
                <a:uFillTx/>
                <a:latin typeface="Arial"/>
                <a:hlinkClick r:id="rId21" action="ppaction://hlinksldjump"/>
              </a:rPr>
              <a:t>1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22" action="ppaction://hlinksldjump"/>
          </p:cNvPr>
          <p:cNvSpPr/>
          <p:nvPr/>
        </p:nvSpPr>
        <p:spPr>
          <a:xfrm>
            <a:off x="3492360" y="4437000"/>
            <a:ext cx="720720" cy="647640"/>
          </a:xfrm>
          <a:custGeom>
            <a:avLst/>
            <a:gdLst>
              <a:gd name="textAreaLeft" fmla="*/ 92160 w 720720"/>
              <a:gd name="textAreaRight" fmla="*/ 628560 w 720720"/>
              <a:gd name="textAreaTop" fmla="*/ 92160 h 647640"/>
              <a:gd name="textAreaBottom" fmla="*/ 5554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0961" y="3075"/>
                </a:lnTo>
                <a:lnTo>
                  <a:pt x="3075" y="3075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0961" y="18525"/>
                </a:lnTo>
                <a:lnTo>
                  <a:pt x="20961" y="3075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3075" y="18525"/>
                </a:lnTo>
                <a:lnTo>
                  <a:pt x="20961" y="18525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3075" y="3075"/>
                </a:lnTo>
                <a:lnTo>
                  <a:pt x="3075" y="18525"/>
                </a:lnTo>
                <a:close/>
              </a:path>
            </a:pathLst>
          </a:custGeom>
          <a:gradFill rotWithShape="0">
            <a:gsLst>
              <a:gs pos="0">
                <a:srgbClr val="000066">
                  <a:alpha val="87058"/>
                </a:srgbClr>
              </a:gs>
              <a:gs pos="100000">
                <a:srgbClr val="333399">
                  <a:alpha val="90196"/>
                </a:srgbClr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99cc00"/>
                </a:solidFill>
                <a:uFillTx/>
                <a:latin typeface="Arial"/>
                <a:hlinkClick r:id="rId23" action="ppaction://hlinksldjump"/>
              </a:rPr>
              <a:t>1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24" action="ppaction://hlinksldjump"/>
          </p:cNvPr>
          <p:cNvSpPr/>
          <p:nvPr/>
        </p:nvSpPr>
        <p:spPr>
          <a:xfrm>
            <a:off x="3492360" y="5373720"/>
            <a:ext cx="720720" cy="647640"/>
          </a:xfrm>
          <a:custGeom>
            <a:avLst/>
            <a:gdLst>
              <a:gd name="textAreaLeft" fmla="*/ 92160 w 720720"/>
              <a:gd name="textAreaRight" fmla="*/ 628560 w 720720"/>
              <a:gd name="textAreaTop" fmla="*/ 92160 h 647640"/>
              <a:gd name="textAreaBottom" fmla="*/ 5554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0961" y="3075"/>
                </a:lnTo>
                <a:lnTo>
                  <a:pt x="3075" y="3075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0961" y="18525"/>
                </a:lnTo>
                <a:lnTo>
                  <a:pt x="20961" y="3075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3075" y="18525"/>
                </a:lnTo>
                <a:lnTo>
                  <a:pt x="20961" y="18525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3075" y="3075"/>
                </a:lnTo>
                <a:lnTo>
                  <a:pt x="3075" y="18525"/>
                </a:lnTo>
                <a:close/>
              </a:path>
            </a:pathLst>
          </a:custGeom>
          <a:gradFill rotWithShape="0">
            <a:gsLst>
              <a:gs pos="0">
                <a:srgbClr val="000066">
                  <a:alpha val="87058"/>
                </a:srgbClr>
              </a:gs>
              <a:gs pos="100000">
                <a:srgbClr val="333399">
                  <a:alpha val="90196"/>
                </a:srgbClr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99cc00"/>
                </a:solidFill>
                <a:uFillTx/>
                <a:latin typeface="Arial"/>
                <a:hlinkClick r:id="rId25" action="ppaction://hlinksldjump"/>
              </a:rPr>
              <a:t>1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rId26" action="ppaction://hlinksldjump"/>
          </p:cNvPr>
          <p:cNvSpPr/>
          <p:nvPr/>
        </p:nvSpPr>
        <p:spPr>
          <a:xfrm>
            <a:off x="4356000" y="2708280"/>
            <a:ext cx="720720" cy="647640"/>
          </a:xfrm>
          <a:custGeom>
            <a:avLst/>
            <a:gdLst>
              <a:gd name="textAreaLeft" fmla="*/ 92160 w 720720"/>
              <a:gd name="textAreaRight" fmla="*/ 628560 w 720720"/>
              <a:gd name="textAreaTop" fmla="*/ 92160 h 647640"/>
              <a:gd name="textAreaBottom" fmla="*/ 5554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0961" y="3075"/>
                </a:lnTo>
                <a:lnTo>
                  <a:pt x="3075" y="3075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0961" y="18525"/>
                </a:lnTo>
                <a:lnTo>
                  <a:pt x="20961" y="3075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3075" y="18525"/>
                </a:lnTo>
                <a:lnTo>
                  <a:pt x="20961" y="18525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3075" y="3075"/>
                </a:lnTo>
                <a:lnTo>
                  <a:pt x="3075" y="18525"/>
                </a:lnTo>
                <a:close/>
              </a:path>
            </a:pathLst>
          </a:custGeom>
          <a:gradFill rotWithShape="0">
            <a:gsLst>
              <a:gs pos="0">
                <a:srgbClr val="000066">
                  <a:alpha val="87058"/>
                </a:srgbClr>
              </a:gs>
              <a:gs pos="100000">
                <a:srgbClr val="333399">
                  <a:alpha val="90196"/>
                </a:srgbClr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99cc00"/>
                </a:solidFill>
                <a:uFillTx/>
                <a:latin typeface="Arial"/>
                <a:hlinkClick r:id="rId27" action="ppaction://hlinksldjump"/>
              </a:rPr>
              <a:t>2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rId28" action="ppaction://hlinksldjump"/>
          </p:cNvPr>
          <p:cNvSpPr/>
          <p:nvPr/>
        </p:nvSpPr>
        <p:spPr>
          <a:xfrm>
            <a:off x="5219640" y="2708280"/>
            <a:ext cx="720720" cy="647640"/>
          </a:xfrm>
          <a:custGeom>
            <a:avLst/>
            <a:gdLst>
              <a:gd name="textAreaLeft" fmla="*/ 92160 w 720720"/>
              <a:gd name="textAreaRight" fmla="*/ 628560 w 720720"/>
              <a:gd name="textAreaTop" fmla="*/ 92160 h 647640"/>
              <a:gd name="textAreaBottom" fmla="*/ 5554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0961" y="3075"/>
                </a:lnTo>
                <a:lnTo>
                  <a:pt x="3075" y="3075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0961" y="18525"/>
                </a:lnTo>
                <a:lnTo>
                  <a:pt x="20961" y="3075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3075" y="18525"/>
                </a:lnTo>
                <a:lnTo>
                  <a:pt x="20961" y="18525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3075" y="3075"/>
                </a:lnTo>
                <a:lnTo>
                  <a:pt x="3075" y="18525"/>
                </a:lnTo>
                <a:close/>
              </a:path>
            </a:pathLst>
          </a:custGeom>
          <a:gradFill rotWithShape="0">
            <a:gsLst>
              <a:gs pos="0">
                <a:srgbClr val="000066">
                  <a:alpha val="87058"/>
                </a:srgbClr>
              </a:gs>
              <a:gs pos="100000">
                <a:srgbClr val="333399">
                  <a:alpha val="90196"/>
                </a:srgbClr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99cc00"/>
                </a:solidFill>
                <a:uFillTx/>
                <a:latin typeface="Arial"/>
                <a:hlinkClick r:id="rId29" action="ppaction://hlinksldjump"/>
              </a:rPr>
              <a:t>3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30" action="ppaction://hlinksldjump"/>
          </p:cNvPr>
          <p:cNvSpPr/>
          <p:nvPr/>
        </p:nvSpPr>
        <p:spPr>
          <a:xfrm>
            <a:off x="6084720" y="2708280"/>
            <a:ext cx="720720" cy="647640"/>
          </a:xfrm>
          <a:custGeom>
            <a:avLst/>
            <a:gdLst>
              <a:gd name="textAreaLeft" fmla="*/ 92160 w 720720"/>
              <a:gd name="textAreaRight" fmla="*/ 628560 w 720720"/>
              <a:gd name="textAreaTop" fmla="*/ 92160 h 647640"/>
              <a:gd name="textAreaBottom" fmla="*/ 5554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0961" y="3075"/>
                </a:lnTo>
                <a:lnTo>
                  <a:pt x="3075" y="3075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0961" y="18525"/>
                </a:lnTo>
                <a:lnTo>
                  <a:pt x="20961" y="3075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3075" y="18525"/>
                </a:lnTo>
                <a:lnTo>
                  <a:pt x="20961" y="18525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3075" y="3075"/>
                </a:lnTo>
                <a:lnTo>
                  <a:pt x="3075" y="18525"/>
                </a:lnTo>
                <a:close/>
              </a:path>
            </a:pathLst>
          </a:custGeom>
          <a:gradFill rotWithShape="0">
            <a:gsLst>
              <a:gs pos="0">
                <a:srgbClr val="000066">
                  <a:alpha val="87058"/>
                </a:srgbClr>
              </a:gs>
              <a:gs pos="100000">
                <a:srgbClr val="333399">
                  <a:alpha val="90196"/>
                </a:srgbClr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99cc00"/>
                </a:solidFill>
                <a:uFillTx/>
                <a:latin typeface="Arial"/>
                <a:hlinkClick r:id="rId31" action="ppaction://hlinksldjump"/>
              </a:rPr>
              <a:t>4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rId32" action="ppaction://hlinksldjump"/>
          </p:cNvPr>
          <p:cNvSpPr/>
          <p:nvPr/>
        </p:nvSpPr>
        <p:spPr>
          <a:xfrm>
            <a:off x="6948360" y="2708280"/>
            <a:ext cx="720720" cy="647640"/>
          </a:xfrm>
          <a:custGeom>
            <a:avLst/>
            <a:gdLst>
              <a:gd name="textAreaLeft" fmla="*/ 92160 w 720720"/>
              <a:gd name="textAreaRight" fmla="*/ 628560 w 720720"/>
              <a:gd name="textAreaTop" fmla="*/ 92160 h 647640"/>
              <a:gd name="textAreaBottom" fmla="*/ 5554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0961" y="3075"/>
                </a:lnTo>
                <a:lnTo>
                  <a:pt x="3075" y="3075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0961" y="18525"/>
                </a:lnTo>
                <a:lnTo>
                  <a:pt x="20961" y="3075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3075" y="18525"/>
                </a:lnTo>
                <a:lnTo>
                  <a:pt x="20961" y="18525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3075" y="3075"/>
                </a:lnTo>
                <a:lnTo>
                  <a:pt x="3075" y="18525"/>
                </a:lnTo>
                <a:close/>
              </a:path>
            </a:pathLst>
          </a:custGeom>
          <a:gradFill rotWithShape="0">
            <a:gsLst>
              <a:gs pos="0">
                <a:srgbClr val="000066">
                  <a:alpha val="87058"/>
                </a:srgbClr>
              </a:gs>
              <a:gs pos="100000">
                <a:srgbClr val="333399">
                  <a:alpha val="90196"/>
                </a:srgbClr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99cc00"/>
                </a:solidFill>
                <a:uFillTx/>
                <a:latin typeface="Arial"/>
                <a:hlinkClick r:id="rId33" action="ppaction://hlinksldjump"/>
              </a:rPr>
              <a:t>5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rId34" action="ppaction://hlinksldjump"/>
          </p:cNvPr>
          <p:cNvSpPr/>
          <p:nvPr/>
        </p:nvSpPr>
        <p:spPr>
          <a:xfrm>
            <a:off x="7812000" y="2708280"/>
            <a:ext cx="720720" cy="647640"/>
          </a:xfrm>
          <a:custGeom>
            <a:avLst/>
            <a:gdLst>
              <a:gd name="textAreaLeft" fmla="*/ 92160 w 720720"/>
              <a:gd name="textAreaRight" fmla="*/ 628560 w 720720"/>
              <a:gd name="textAreaTop" fmla="*/ 92160 h 647640"/>
              <a:gd name="textAreaBottom" fmla="*/ 5554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0961" y="3075"/>
                </a:lnTo>
                <a:lnTo>
                  <a:pt x="3075" y="3075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0961" y="18525"/>
                </a:lnTo>
                <a:lnTo>
                  <a:pt x="20961" y="3075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3075" y="18525"/>
                </a:lnTo>
                <a:lnTo>
                  <a:pt x="20961" y="18525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3075" y="3075"/>
                </a:lnTo>
                <a:lnTo>
                  <a:pt x="3075" y="18525"/>
                </a:lnTo>
                <a:close/>
              </a:path>
            </a:pathLst>
          </a:custGeom>
          <a:gradFill rotWithShape="0">
            <a:gsLst>
              <a:gs pos="0">
                <a:srgbClr val="000066">
                  <a:alpha val="87058"/>
                </a:srgbClr>
              </a:gs>
              <a:gs pos="100000">
                <a:srgbClr val="333399">
                  <a:alpha val="90196"/>
                </a:srgbClr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99cc00"/>
                </a:solidFill>
                <a:uFillTx/>
                <a:latin typeface="Arial"/>
                <a:hlinkClick r:id="rId35" action="ppaction://hlinksldjump"/>
              </a:rPr>
              <a:t>6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rId36" action="ppaction://hlinksldjump"/>
          </p:cNvPr>
          <p:cNvSpPr/>
          <p:nvPr/>
        </p:nvSpPr>
        <p:spPr>
          <a:xfrm>
            <a:off x="4356000" y="1844640"/>
            <a:ext cx="720720" cy="647640"/>
          </a:xfrm>
          <a:custGeom>
            <a:avLst/>
            <a:gdLst>
              <a:gd name="textAreaLeft" fmla="*/ 92160 w 720720"/>
              <a:gd name="textAreaRight" fmla="*/ 628560 w 720720"/>
              <a:gd name="textAreaTop" fmla="*/ 92160 h 647640"/>
              <a:gd name="textAreaBottom" fmla="*/ 5554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0961" y="3075"/>
                </a:lnTo>
                <a:lnTo>
                  <a:pt x="3075" y="3075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0961" y="18525"/>
                </a:lnTo>
                <a:lnTo>
                  <a:pt x="20961" y="3075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3075" y="18525"/>
                </a:lnTo>
                <a:lnTo>
                  <a:pt x="20961" y="18525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3075" y="3075"/>
                </a:lnTo>
                <a:lnTo>
                  <a:pt x="3075" y="18525"/>
                </a:lnTo>
                <a:close/>
              </a:path>
            </a:pathLst>
          </a:custGeom>
          <a:gradFill rotWithShape="0">
            <a:gsLst>
              <a:gs pos="0">
                <a:srgbClr val="000066">
                  <a:alpha val="87058"/>
                </a:srgbClr>
              </a:gs>
              <a:gs pos="100000">
                <a:srgbClr val="333399">
                  <a:alpha val="90196"/>
                </a:srgbClr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99cc00"/>
                </a:solidFill>
                <a:uFillTx/>
                <a:latin typeface="Arial"/>
                <a:hlinkClick r:id="rId37" action="ppaction://hlinksldjump"/>
              </a:rPr>
              <a:t>2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rId38" action="ppaction://hlinksldjump"/>
          </p:cNvPr>
          <p:cNvSpPr/>
          <p:nvPr/>
        </p:nvSpPr>
        <p:spPr>
          <a:xfrm>
            <a:off x="5219640" y="1844640"/>
            <a:ext cx="720720" cy="647640"/>
          </a:xfrm>
          <a:custGeom>
            <a:avLst/>
            <a:gdLst>
              <a:gd name="textAreaLeft" fmla="*/ 92160 w 720720"/>
              <a:gd name="textAreaRight" fmla="*/ 628560 w 720720"/>
              <a:gd name="textAreaTop" fmla="*/ 92160 h 647640"/>
              <a:gd name="textAreaBottom" fmla="*/ 5554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0961" y="3075"/>
                </a:lnTo>
                <a:lnTo>
                  <a:pt x="3075" y="3075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0961" y="18525"/>
                </a:lnTo>
                <a:lnTo>
                  <a:pt x="20961" y="3075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3075" y="18525"/>
                </a:lnTo>
                <a:lnTo>
                  <a:pt x="20961" y="18525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3075" y="3075"/>
                </a:lnTo>
                <a:lnTo>
                  <a:pt x="3075" y="18525"/>
                </a:lnTo>
                <a:close/>
              </a:path>
            </a:pathLst>
          </a:custGeom>
          <a:gradFill rotWithShape="0">
            <a:gsLst>
              <a:gs pos="0">
                <a:srgbClr val="000066">
                  <a:alpha val="87058"/>
                </a:srgbClr>
              </a:gs>
              <a:gs pos="100000">
                <a:srgbClr val="333399">
                  <a:alpha val="90196"/>
                </a:srgbClr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99cc00"/>
                </a:solidFill>
                <a:uFillTx/>
                <a:latin typeface="Arial"/>
                <a:hlinkClick r:id="rId39" action="ppaction://hlinksldjump"/>
              </a:rPr>
              <a:t>3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>
            <a:hlinkClick r:id="rId40" action="ppaction://hlinksldjump"/>
          </p:cNvPr>
          <p:cNvSpPr/>
          <p:nvPr/>
        </p:nvSpPr>
        <p:spPr>
          <a:xfrm>
            <a:off x="6084720" y="1844640"/>
            <a:ext cx="720720" cy="647640"/>
          </a:xfrm>
          <a:custGeom>
            <a:avLst/>
            <a:gdLst>
              <a:gd name="textAreaLeft" fmla="*/ 92160 w 720720"/>
              <a:gd name="textAreaRight" fmla="*/ 628560 w 720720"/>
              <a:gd name="textAreaTop" fmla="*/ 92160 h 647640"/>
              <a:gd name="textAreaBottom" fmla="*/ 5554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0961" y="3075"/>
                </a:lnTo>
                <a:lnTo>
                  <a:pt x="3075" y="3075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0961" y="18525"/>
                </a:lnTo>
                <a:lnTo>
                  <a:pt x="20961" y="3075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3075" y="18525"/>
                </a:lnTo>
                <a:lnTo>
                  <a:pt x="20961" y="18525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3075" y="3075"/>
                </a:lnTo>
                <a:lnTo>
                  <a:pt x="3075" y="18525"/>
                </a:lnTo>
                <a:close/>
              </a:path>
            </a:pathLst>
          </a:custGeom>
          <a:gradFill rotWithShape="0">
            <a:gsLst>
              <a:gs pos="0">
                <a:srgbClr val="000066">
                  <a:alpha val="87058"/>
                </a:srgbClr>
              </a:gs>
              <a:gs pos="100000">
                <a:srgbClr val="333399">
                  <a:alpha val="90196"/>
                </a:srgbClr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99cc00"/>
                </a:solidFill>
                <a:uFillTx/>
                <a:latin typeface="Arial"/>
                <a:hlinkClick r:id="rId41" action="ppaction://hlinksldjump"/>
              </a:rPr>
              <a:t>4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rId42" action="ppaction://hlinksldjump"/>
          </p:cNvPr>
          <p:cNvSpPr/>
          <p:nvPr/>
        </p:nvSpPr>
        <p:spPr>
          <a:xfrm>
            <a:off x="6948360" y="1844640"/>
            <a:ext cx="720720" cy="647640"/>
          </a:xfrm>
          <a:custGeom>
            <a:avLst/>
            <a:gdLst>
              <a:gd name="textAreaLeft" fmla="*/ 92160 w 720720"/>
              <a:gd name="textAreaRight" fmla="*/ 628560 w 720720"/>
              <a:gd name="textAreaTop" fmla="*/ 92160 h 647640"/>
              <a:gd name="textAreaBottom" fmla="*/ 5554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0961" y="3075"/>
                </a:lnTo>
                <a:lnTo>
                  <a:pt x="3075" y="3075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0961" y="18525"/>
                </a:lnTo>
                <a:lnTo>
                  <a:pt x="20961" y="3075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3075" y="18525"/>
                </a:lnTo>
                <a:lnTo>
                  <a:pt x="20961" y="18525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3075" y="3075"/>
                </a:lnTo>
                <a:lnTo>
                  <a:pt x="3075" y="18525"/>
                </a:lnTo>
                <a:close/>
              </a:path>
            </a:pathLst>
          </a:custGeom>
          <a:gradFill rotWithShape="0">
            <a:gsLst>
              <a:gs pos="0">
                <a:srgbClr val="000066">
                  <a:alpha val="87058"/>
                </a:srgbClr>
              </a:gs>
              <a:gs pos="100000">
                <a:srgbClr val="333399">
                  <a:alpha val="90196"/>
                </a:srgbClr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99cc00"/>
                </a:solidFill>
                <a:uFillTx/>
                <a:latin typeface="Arial"/>
                <a:hlinkClick r:id="rId43" action="ppaction://hlinksldjump"/>
              </a:rPr>
              <a:t>5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>
            <a:hlinkClick r:id="rId44" action="ppaction://hlinksldjump"/>
          </p:cNvPr>
          <p:cNvSpPr/>
          <p:nvPr/>
        </p:nvSpPr>
        <p:spPr>
          <a:xfrm>
            <a:off x="7812000" y="1844640"/>
            <a:ext cx="720720" cy="647640"/>
          </a:xfrm>
          <a:custGeom>
            <a:avLst/>
            <a:gdLst>
              <a:gd name="textAreaLeft" fmla="*/ 92160 w 720720"/>
              <a:gd name="textAreaRight" fmla="*/ 628560 w 720720"/>
              <a:gd name="textAreaTop" fmla="*/ 92160 h 647640"/>
              <a:gd name="textAreaBottom" fmla="*/ 5554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0961" y="3075"/>
                </a:lnTo>
                <a:lnTo>
                  <a:pt x="3075" y="3075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0961" y="18525"/>
                </a:lnTo>
                <a:lnTo>
                  <a:pt x="20961" y="3075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3075" y="18525"/>
                </a:lnTo>
                <a:lnTo>
                  <a:pt x="20961" y="18525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3075" y="3075"/>
                </a:lnTo>
                <a:lnTo>
                  <a:pt x="3075" y="18525"/>
                </a:lnTo>
                <a:close/>
              </a:path>
            </a:pathLst>
          </a:custGeom>
          <a:gradFill rotWithShape="0">
            <a:gsLst>
              <a:gs pos="0">
                <a:srgbClr val="000066">
                  <a:alpha val="87058"/>
                </a:srgbClr>
              </a:gs>
              <a:gs pos="100000">
                <a:srgbClr val="333399">
                  <a:alpha val="90196"/>
                </a:srgbClr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99cc00"/>
                </a:solidFill>
                <a:uFillTx/>
                <a:latin typeface="Arial"/>
                <a:hlinkClick r:id="rId45" action="ppaction://hlinksldjump"/>
              </a:rPr>
              <a:t>6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rId46" action="ppaction://hlinksldjump"/>
          </p:cNvPr>
          <p:cNvSpPr/>
          <p:nvPr/>
        </p:nvSpPr>
        <p:spPr>
          <a:xfrm>
            <a:off x="4356000" y="4437000"/>
            <a:ext cx="720720" cy="647640"/>
          </a:xfrm>
          <a:custGeom>
            <a:avLst/>
            <a:gdLst>
              <a:gd name="textAreaLeft" fmla="*/ 92160 w 720720"/>
              <a:gd name="textAreaRight" fmla="*/ 628560 w 720720"/>
              <a:gd name="textAreaTop" fmla="*/ 92160 h 647640"/>
              <a:gd name="textAreaBottom" fmla="*/ 5554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0961" y="3075"/>
                </a:lnTo>
                <a:lnTo>
                  <a:pt x="3075" y="3075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0961" y="18525"/>
                </a:lnTo>
                <a:lnTo>
                  <a:pt x="20961" y="3075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3075" y="18525"/>
                </a:lnTo>
                <a:lnTo>
                  <a:pt x="20961" y="18525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3075" y="3075"/>
                </a:lnTo>
                <a:lnTo>
                  <a:pt x="3075" y="18525"/>
                </a:lnTo>
                <a:close/>
              </a:path>
            </a:pathLst>
          </a:custGeom>
          <a:gradFill rotWithShape="0">
            <a:gsLst>
              <a:gs pos="0">
                <a:srgbClr val="000066">
                  <a:alpha val="87058"/>
                </a:srgbClr>
              </a:gs>
              <a:gs pos="100000">
                <a:srgbClr val="333399">
                  <a:alpha val="90196"/>
                </a:srgbClr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99cc00"/>
                </a:solidFill>
                <a:uFillTx/>
                <a:latin typeface="Arial"/>
                <a:hlinkClick r:id="rId47" action="ppaction://hlinksldjump"/>
              </a:rPr>
              <a:t>2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rId48" action="ppaction://hlinksldjump"/>
          </p:cNvPr>
          <p:cNvSpPr/>
          <p:nvPr/>
        </p:nvSpPr>
        <p:spPr>
          <a:xfrm>
            <a:off x="4356000" y="5373720"/>
            <a:ext cx="720720" cy="647640"/>
          </a:xfrm>
          <a:custGeom>
            <a:avLst/>
            <a:gdLst>
              <a:gd name="textAreaLeft" fmla="*/ 92160 w 720720"/>
              <a:gd name="textAreaRight" fmla="*/ 628560 w 720720"/>
              <a:gd name="textAreaTop" fmla="*/ 92160 h 647640"/>
              <a:gd name="textAreaBottom" fmla="*/ 5554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0961" y="3075"/>
                </a:lnTo>
                <a:lnTo>
                  <a:pt x="3075" y="3075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0961" y="18525"/>
                </a:lnTo>
                <a:lnTo>
                  <a:pt x="20961" y="3075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3075" y="18525"/>
                </a:lnTo>
                <a:lnTo>
                  <a:pt x="20961" y="18525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3075" y="3075"/>
                </a:lnTo>
                <a:lnTo>
                  <a:pt x="3075" y="18525"/>
                </a:lnTo>
                <a:close/>
              </a:path>
            </a:pathLst>
          </a:custGeom>
          <a:gradFill rotWithShape="0">
            <a:gsLst>
              <a:gs pos="0">
                <a:srgbClr val="000066">
                  <a:alpha val="87058"/>
                </a:srgbClr>
              </a:gs>
              <a:gs pos="100000">
                <a:srgbClr val="333399">
                  <a:alpha val="90196"/>
                </a:srgbClr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99cc00"/>
                </a:solidFill>
                <a:uFillTx/>
                <a:latin typeface="Arial"/>
                <a:hlinkClick r:id="rId49" action="ppaction://hlinksldjump"/>
              </a:rPr>
              <a:t>2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rId50" action="ppaction://hlinksldjump"/>
          </p:cNvPr>
          <p:cNvSpPr/>
          <p:nvPr/>
        </p:nvSpPr>
        <p:spPr>
          <a:xfrm>
            <a:off x="5219640" y="4437000"/>
            <a:ext cx="720720" cy="647640"/>
          </a:xfrm>
          <a:custGeom>
            <a:avLst/>
            <a:gdLst>
              <a:gd name="textAreaLeft" fmla="*/ 92160 w 720720"/>
              <a:gd name="textAreaRight" fmla="*/ 628560 w 720720"/>
              <a:gd name="textAreaTop" fmla="*/ 92160 h 647640"/>
              <a:gd name="textAreaBottom" fmla="*/ 5554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0961" y="3075"/>
                </a:lnTo>
                <a:lnTo>
                  <a:pt x="3075" y="3075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0961" y="18525"/>
                </a:lnTo>
                <a:lnTo>
                  <a:pt x="20961" y="3075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3075" y="18525"/>
                </a:lnTo>
                <a:lnTo>
                  <a:pt x="20961" y="18525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3075" y="3075"/>
                </a:lnTo>
                <a:lnTo>
                  <a:pt x="3075" y="18525"/>
                </a:lnTo>
                <a:close/>
              </a:path>
            </a:pathLst>
          </a:custGeom>
          <a:gradFill rotWithShape="0">
            <a:gsLst>
              <a:gs pos="0">
                <a:srgbClr val="000066">
                  <a:alpha val="87058"/>
                </a:srgbClr>
              </a:gs>
              <a:gs pos="100000">
                <a:srgbClr val="333399">
                  <a:alpha val="90196"/>
                </a:srgbClr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99cc00"/>
                </a:solidFill>
                <a:uFillTx/>
                <a:latin typeface="Arial"/>
                <a:hlinkClick r:id="rId51" action="ppaction://hlinksldjump"/>
              </a:rPr>
              <a:t>3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rId52" action="ppaction://hlinksldjump"/>
          </p:cNvPr>
          <p:cNvSpPr/>
          <p:nvPr/>
        </p:nvSpPr>
        <p:spPr>
          <a:xfrm>
            <a:off x="5219640" y="5373720"/>
            <a:ext cx="720720" cy="647640"/>
          </a:xfrm>
          <a:custGeom>
            <a:avLst/>
            <a:gdLst>
              <a:gd name="textAreaLeft" fmla="*/ 92160 w 720720"/>
              <a:gd name="textAreaRight" fmla="*/ 628560 w 720720"/>
              <a:gd name="textAreaTop" fmla="*/ 92160 h 647640"/>
              <a:gd name="textAreaBottom" fmla="*/ 5554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0961" y="3075"/>
                </a:lnTo>
                <a:lnTo>
                  <a:pt x="3075" y="3075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0961" y="18525"/>
                </a:lnTo>
                <a:lnTo>
                  <a:pt x="20961" y="3075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3075" y="18525"/>
                </a:lnTo>
                <a:lnTo>
                  <a:pt x="20961" y="18525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3075" y="3075"/>
                </a:lnTo>
                <a:lnTo>
                  <a:pt x="3075" y="18525"/>
                </a:lnTo>
                <a:close/>
              </a:path>
            </a:pathLst>
          </a:custGeom>
          <a:gradFill rotWithShape="0">
            <a:gsLst>
              <a:gs pos="0">
                <a:srgbClr val="000066">
                  <a:alpha val="87058"/>
                </a:srgbClr>
              </a:gs>
              <a:gs pos="100000">
                <a:srgbClr val="333399">
                  <a:alpha val="90196"/>
                </a:srgbClr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99cc00"/>
                </a:solidFill>
                <a:uFillTx/>
                <a:latin typeface="Arial"/>
                <a:hlinkClick r:id="rId53" action="ppaction://hlinksldjump"/>
              </a:rPr>
              <a:t>3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>
            <a:hlinkClick r:id="rId54" action="ppaction://hlinksldjump"/>
          </p:cNvPr>
          <p:cNvSpPr/>
          <p:nvPr/>
        </p:nvSpPr>
        <p:spPr>
          <a:xfrm>
            <a:off x="6084720" y="4437000"/>
            <a:ext cx="720720" cy="647640"/>
          </a:xfrm>
          <a:custGeom>
            <a:avLst/>
            <a:gdLst>
              <a:gd name="textAreaLeft" fmla="*/ 92160 w 720720"/>
              <a:gd name="textAreaRight" fmla="*/ 628560 w 720720"/>
              <a:gd name="textAreaTop" fmla="*/ 92160 h 647640"/>
              <a:gd name="textAreaBottom" fmla="*/ 5554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0961" y="3075"/>
                </a:lnTo>
                <a:lnTo>
                  <a:pt x="3075" y="3075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0961" y="18525"/>
                </a:lnTo>
                <a:lnTo>
                  <a:pt x="20961" y="3075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3075" y="18525"/>
                </a:lnTo>
                <a:lnTo>
                  <a:pt x="20961" y="18525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3075" y="3075"/>
                </a:lnTo>
                <a:lnTo>
                  <a:pt x="3075" y="18525"/>
                </a:lnTo>
                <a:close/>
              </a:path>
            </a:pathLst>
          </a:custGeom>
          <a:gradFill rotWithShape="0">
            <a:gsLst>
              <a:gs pos="0">
                <a:srgbClr val="000066">
                  <a:alpha val="87058"/>
                </a:srgbClr>
              </a:gs>
              <a:gs pos="100000">
                <a:srgbClr val="333399">
                  <a:alpha val="90196"/>
                </a:srgbClr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99cc00"/>
                </a:solidFill>
                <a:uFillTx/>
                <a:latin typeface="Arial"/>
                <a:hlinkClick r:id="rId55" action="ppaction://hlinksldjump"/>
              </a:rPr>
              <a:t>4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rId56" action="ppaction://hlinksldjump"/>
          </p:cNvPr>
          <p:cNvSpPr/>
          <p:nvPr/>
        </p:nvSpPr>
        <p:spPr>
          <a:xfrm>
            <a:off x="6084720" y="5373720"/>
            <a:ext cx="720720" cy="647640"/>
          </a:xfrm>
          <a:custGeom>
            <a:avLst/>
            <a:gdLst>
              <a:gd name="textAreaLeft" fmla="*/ 92160 w 720720"/>
              <a:gd name="textAreaRight" fmla="*/ 628560 w 720720"/>
              <a:gd name="textAreaTop" fmla="*/ 92160 h 647640"/>
              <a:gd name="textAreaBottom" fmla="*/ 5554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0961" y="3075"/>
                </a:lnTo>
                <a:lnTo>
                  <a:pt x="3075" y="3075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0961" y="18525"/>
                </a:lnTo>
                <a:lnTo>
                  <a:pt x="20961" y="3075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3075" y="18525"/>
                </a:lnTo>
                <a:lnTo>
                  <a:pt x="20961" y="18525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3075" y="3075"/>
                </a:lnTo>
                <a:lnTo>
                  <a:pt x="3075" y="18525"/>
                </a:lnTo>
                <a:close/>
              </a:path>
            </a:pathLst>
          </a:custGeom>
          <a:gradFill rotWithShape="0">
            <a:gsLst>
              <a:gs pos="0">
                <a:srgbClr val="000066">
                  <a:alpha val="87058"/>
                </a:srgbClr>
              </a:gs>
              <a:gs pos="100000">
                <a:srgbClr val="333399">
                  <a:alpha val="90196"/>
                </a:srgbClr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99cc00"/>
                </a:solidFill>
                <a:uFillTx/>
                <a:latin typeface="Arial"/>
                <a:hlinkClick r:id="rId57" action="ppaction://hlinksldjump"/>
              </a:rPr>
              <a:t>4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58" action="ppaction://hlinksldjump"/>
          </p:cNvPr>
          <p:cNvSpPr/>
          <p:nvPr/>
        </p:nvSpPr>
        <p:spPr>
          <a:xfrm>
            <a:off x="6948360" y="4437000"/>
            <a:ext cx="720720" cy="647640"/>
          </a:xfrm>
          <a:custGeom>
            <a:avLst/>
            <a:gdLst>
              <a:gd name="textAreaLeft" fmla="*/ 92160 w 720720"/>
              <a:gd name="textAreaRight" fmla="*/ 628560 w 720720"/>
              <a:gd name="textAreaTop" fmla="*/ 92160 h 647640"/>
              <a:gd name="textAreaBottom" fmla="*/ 5554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0961" y="3075"/>
                </a:lnTo>
                <a:lnTo>
                  <a:pt x="3075" y="3075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0961" y="18525"/>
                </a:lnTo>
                <a:lnTo>
                  <a:pt x="20961" y="3075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3075" y="18525"/>
                </a:lnTo>
                <a:lnTo>
                  <a:pt x="20961" y="18525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3075" y="3075"/>
                </a:lnTo>
                <a:lnTo>
                  <a:pt x="3075" y="18525"/>
                </a:lnTo>
                <a:close/>
              </a:path>
            </a:pathLst>
          </a:custGeom>
          <a:gradFill rotWithShape="0">
            <a:gsLst>
              <a:gs pos="0">
                <a:srgbClr val="000066">
                  <a:alpha val="87058"/>
                </a:srgbClr>
              </a:gs>
              <a:gs pos="100000">
                <a:srgbClr val="333399">
                  <a:alpha val="90196"/>
                </a:srgbClr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99cc00"/>
                </a:solidFill>
                <a:uFillTx/>
                <a:latin typeface="Arial"/>
                <a:hlinkClick r:id="rId59" action="ppaction://hlinksldjump"/>
              </a:rPr>
              <a:t>5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60" action="ppaction://hlinksldjump"/>
          </p:cNvPr>
          <p:cNvSpPr/>
          <p:nvPr/>
        </p:nvSpPr>
        <p:spPr>
          <a:xfrm>
            <a:off x="6948360" y="5373720"/>
            <a:ext cx="720720" cy="647640"/>
          </a:xfrm>
          <a:custGeom>
            <a:avLst/>
            <a:gdLst>
              <a:gd name="textAreaLeft" fmla="*/ 92160 w 720720"/>
              <a:gd name="textAreaRight" fmla="*/ 628560 w 720720"/>
              <a:gd name="textAreaTop" fmla="*/ 92160 h 647640"/>
              <a:gd name="textAreaBottom" fmla="*/ 5554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0961" y="3075"/>
                </a:lnTo>
                <a:lnTo>
                  <a:pt x="3075" y="3075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0961" y="18525"/>
                </a:lnTo>
                <a:lnTo>
                  <a:pt x="20961" y="3075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3075" y="18525"/>
                </a:lnTo>
                <a:lnTo>
                  <a:pt x="20961" y="18525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3075" y="3075"/>
                </a:lnTo>
                <a:lnTo>
                  <a:pt x="3075" y="18525"/>
                </a:lnTo>
                <a:close/>
              </a:path>
            </a:pathLst>
          </a:custGeom>
          <a:gradFill rotWithShape="0">
            <a:gsLst>
              <a:gs pos="0">
                <a:srgbClr val="000066">
                  <a:alpha val="87058"/>
                </a:srgbClr>
              </a:gs>
              <a:gs pos="100000">
                <a:srgbClr val="333399">
                  <a:alpha val="90196"/>
                </a:srgbClr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99cc00"/>
                </a:solidFill>
                <a:uFillTx/>
                <a:latin typeface="Arial"/>
                <a:hlinkClick r:id="rId61" action="ppaction://hlinksldjump"/>
              </a:rPr>
              <a:t>5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62" action="ppaction://hlinksldjump"/>
          </p:cNvPr>
          <p:cNvSpPr/>
          <p:nvPr/>
        </p:nvSpPr>
        <p:spPr>
          <a:xfrm>
            <a:off x="7812000" y="4437000"/>
            <a:ext cx="720720" cy="647640"/>
          </a:xfrm>
          <a:custGeom>
            <a:avLst/>
            <a:gdLst>
              <a:gd name="textAreaLeft" fmla="*/ 92160 w 720720"/>
              <a:gd name="textAreaRight" fmla="*/ 628560 w 720720"/>
              <a:gd name="textAreaTop" fmla="*/ 92160 h 647640"/>
              <a:gd name="textAreaBottom" fmla="*/ 5554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0961" y="3075"/>
                </a:lnTo>
                <a:lnTo>
                  <a:pt x="3075" y="3075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0961" y="18525"/>
                </a:lnTo>
                <a:lnTo>
                  <a:pt x="20961" y="3075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3075" y="18525"/>
                </a:lnTo>
                <a:lnTo>
                  <a:pt x="20961" y="18525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3075" y="3075"/>
                </a:lnTo>
                <a:lnTo>
                  <a:pt x="3075" y="18525"/>
                </a:lnTo>
                <a:close/>
              </a:path>
            </a:pathLst>
          </a:custGeom>
          <a:gradFill rotWithShape="0">
            <a:gsLst>
              <a:gs pos="0">
                <a:srgbClr val="000066">
                  <a:alpha val="87058"/>
                </a:srgbClr>
              </a:gs>
              <a:gs pos="100000">
                <a:srgbClr val="333399">
                  <a:alpha val="90196"/>
                </a:srgbClr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99cc00"/>
                </a:solidFill>
                <a:uFillTx/>
                <a:latin typeface="Arial"/>
                <a:hlinkClick r:id="rId63" action="ppaction://hlinksldjump"/>
              </a:rPr>
              <a:t>6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rId64" action="ppaction://hlinksldjump"/>
          </p:cNvPr>
          <p:cNvSpPr/>
          <p:nvPr/>
        </p:nvSpPr>
        <p:spPr>
          <a:xfrm>
            <a:off x="7812000" y="5373720"/>
            <a:ext cx="720720" cy="647640"/>
          </a:xfrm>
          <a:custGeom>
            <a:avLst/>
            <a:gdLst>
              <a:gd name="textAreaLeft" fmla="*/ 92160 w 720720"/>
              <a:gd name="textAreaRight" fmla="*/ 628560 w 720720"/>
              <a:gd name="textAreaTop" fmla="*/ 92160 h 647640"/>
              <a:gd name="textAreaBottom" fmla="*/ 5554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0961" y="3075"/>
                </a:lnTo>
                <a:lnTo>
                  <a:pt x="3075" y="3075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0961" y="18525"/>
                </a:lnTo>
                <a:lnTo>
                  <a:pt x="20961" y="3075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3075" y="18525"/>
                </a:lnTo>
                <a:lnTo>
                  <a:pt x="20961" y="18525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3075" y="3075"/>
                </a:lnTo>
                <a:lnTo>
                  <a:pt x="3075" y="18525"/>
                </a:lnTo>
                <a:close/>
              </a:path>
            </a:pathLst>
          </a:custGeom>
          <a:gradFill rotWithShape="0">
            <a:gsLst>
              <a:gs pos="0">
                <a:srgbClr val="000066">
                  <a:alpha val="87058"/>
                </a:srgbClr>
              </a:gs>
              <a:gs pos="100000">
                <a:srgbClr val="333399">
                  <a:alpha val="90196"/>
                </a:srgbClr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99cc00"/>
                </a:solidFill>
                <a:uFillTx/>
                <a:latin typeface="Arial"/>
                <a:hlinkClick r:id="rId65" action="ppaction://hlinksldjump"/>
              </a:rPr>
              <a:t>6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>
            <a:hlinkClick r:id="rId2" action="ppaction://hlinksldjump"/>
          </p:cNvPr>
          <p:cNvSpPr/>
          <p:nvPr/>
        </p:nvSpPr>
        <p:spPr>
          <a:xfrm>
            <a:off x="2411280" y="5373720"/>
            <a:ext cx="4464360" cy="1150920"/>
          </a:xfrm>
          <a:prstGeom prst="ellipse">
            <a:avLst/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5400000"/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HCl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>
            <a:hlinkClick r:id="rId3" action="ppaction://hlinksldjump"/>
          </p:cNvPr>
          <p:cNvSpPr/>
          <p:nvPr/>
        </p:nvSpPr>
        <p:spPr>
          <a:xfrm>
            <a:off x="4822920" y="4076640"/>
            <a:ext cx="4321080" cy="1297080"/>
          </a:xfrm>
          <a:prstGeom prst="ellipse">
            <a:avLst/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5400000"/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HCl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>
            <a:hlinkClick r:id="rId4" action="ppaction://hlinksldjump"/>
          </p:cNvPr>
          <p:cNvSpPr/>
          <p:nvPr/>
        </p:nvSpPr>
        <p:spPr>
          <a:xfrm>
            <a:off x="179280" y="4005360"/>
            <a:ext cx="4464000" cy="1224000"/>
          </a:xfrm>
          <a:prstGeom prst="ellipse">
            <a:avLst/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5400000"/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HCl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68360" y="404640"/>
            <a:ext cx="12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ladimir Script"/>
              </a:rPr>
              <a:t>ИГРА</a:t>
            </a:r>
            <a:endParaRPr b="1" lang="en-US" sz="44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ladimir Script"/>
              <a:ea typeface="Vladimir Script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979640" y="404640"/>
            <a:ext cx="1871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ХОЧУ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067280" y="333360"/>
            <a:ext cx="1368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СЁ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5724360" y="404640"/>
            <a:ext cx="2665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НАТЬ!"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7"/>
          <a:stretch/>
        </p:blipFill>
        <p:spPr>
          <a:xfrm>
            <a:off x="2124000" y="907920"/>
            <a:ext cx="6335640" cy="2174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2700360" y="1341360"/>
            <a:ext cx="1152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Gautami"/>
              </a:rPr>
              <a:t>ТЕМА :</a:t>
            </a:r>
            <a:endParaRPr b="1" i="1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Gautami"/>
              <a:ea typeface="Gautami"/>
            </a:endParaRPr>
          </a:p>
        </p:txBody>
      </p:sp>
      <p:sp>
        <p:nvSpPr>
          <p:cNvPr id="305" name=""/>
          <p:cNvSpPr/>
          <p:nvPr/>
        </p:nvSpPr>
        <p:spPr>
          <a:xfrm>
            <a:off x="755640" y="981000"/>
            <a:ext cx="720720" cy="647640"/>
          </a:xfrm>
          <a:custGeom>
            <a:avLst/>
            <a:gdLst>
              <a:gd name="textAreaLeft" fmla="*/ 92160 w 720720"/>
              <a:gd name="textAreaRight" fmla="*/ 628560 w 720720"/>
              <a:gd name="textAreaTop" fmla="*/ 92160 h 647640"/>
              <a:gd name="textAreaBottom" fmla="*/ 5554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0961" y="3075"/>
                </a:lnTo>
                <a:lnTo>
                  <a:pt x="3075" y="3075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0961" y="18525"/>
                </a:lnTo>
                <a:lnTo>
                  <a:pt x="20961" y="3075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3075" y="18525"/>
                </a:lnTo>
                <a:lnTo>
                  <a:pt x="20961" y="18525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3075" y="3075"/>
                </a:lnTo>
                <a:lnTo>
                  <a:pt x="3075" y="18525"/>
                </a:lnTo>
                <a:close/>
              </a:path>
            </a:pathLst>
          </a:custGeom>
          <a:gradFill rotWithShape="0">
            <a:gsLst>
              <a:gs pos="0">
                <a:srgbClr val="97cd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 rot="10800000">
            <a:off x="179280" y="2276640"/>
            <a:ext cx="8569440" cy="1584000"/>
          </a:xfrm>
          <a:prstGeom prst="wedgeEllipseCallout">
            <a:avLst>
              <a:gd name="adj1" fmla="val -35050"/>
              <a:gd name="adj2" fmla="val 88476"/>
            </a:avLst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16200000"/>
          </a:gradFill>
          <a:ln w="5724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Наибольшая валентность у хлора в кислот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>
            <a:hlinkClick r:id="rId8" action="ppaction://hlinksldjump"/>
          </p:cNvPr>
          <p:cNvSpPr/>
          <p:nvPr/>
        </p:nvSpPr>
        <p:spPr>
          <a:xfrm>
            <a:off x="6948360" y="6237360"/>
            <a:ext cx="1979640" cy="433440"/>
          </a:xfrm>
          <a:prstGeom prst="bevel">
            <a:avLst>
              <a:gd name="adj" fmla="val 125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должить иг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716360" y="1052640"/>
            <a:ext cx="38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Arial"/>
              </a:rPr>
              <a:t>« Кислоты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4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385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7" dur="385" fill="hold"/>
                                        <p:tgtEl>
                                          <p:spTgt spid="3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9" dur="385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1" dur="385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>
            <a:hlinkClick r:id="rId2" action="ppaction://hlinksldjump"/>
          </p:cNvPr>
          <p:cNvSpPr/>
          <p:nvPr/>
        </p:nvSpPr>
        <p:spPr>
          <a:xfrm>
            <a:off x="2411280" y="5373720"/>
            <a:ext cx="4032360" cy="1225440"/>
          </a:xfrm>
          <a:prstGeom prst="ellipse">
            <a:avLst/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5400000"/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) НЭ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>
            <a:hlinkClick r:id="rId3" action="ppaction://hlinksldjump"/>
          </p:cNvPr>
          <p:cNvSpPr/>
          <p:nvPr/>
        </p:nvSpPr>
        <p:spPr>
          <a:xfrm>
            <a:off x="4788000" y="4221000"/>
            <a:ext cx="4032000" cy="1225800"/>
          </a:xfrm>
          <a:prstGeom prst="ellipse">
            <a:avLst/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5400000"/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) Э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>
            <a:hlinkClick r:id="rId4" action="ppaction://hlinksldjump"/>
          </p:cNvPr>
          <p:cNvSpPr/>
          <p:nvPr/>
        </p:nvSpPr>
        <p:spPr>
          <a:xfrm>
            <a:off x="324000" y="4221000"/>
            <a:ext cx="4032000" cy="1225800"/>
          </a:xfrm>
          <a:prstGeom prst="ellipse">
            <a:avLst/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5400000"/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) Э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68360" y="404640"/>
            <a:ext cx="12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ladimir Script"/>
              </a:rPr>
              <a:t>ИГРА</a:t>
            </a:r>
            <a:endParaRPr b="1" lang="en-US" sz="44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ladimir Script"/>
              <a:ea typeface="Vladimir Script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1979640" y="404640"/>
            <a:ext cx="1871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ХОЧУ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067280" y="333360"/>
            <a:ext cx="1368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СЁ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5724360" y="404640"/>
            <a:ext cx="2665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НАТЬ!"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7"/>
          <a:stretch/>
        </p:blipFill>
        <p:spPr>
          <a:xfrm>
            <a:off x="2124000" y="907920"/>
            <a:ext cx="6335640" cy="21744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2700360" y="1341360"/>
            <a:ext cx="1152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Gautami"/>
              </a:rPr>
              <a:t>ТЕМА :</a:t>
            </a:r>
            <a:endParaRPr b="1" i="1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Gautami"/>
              <a:ea typeface="Gautami"/>
            </a:endParaRPr>
          </a:p>
        </p:txBody>
      </p:sp>
      <p:sp>
        <p:nvSpPr>
          <p:cNvPr id="318" name=""/>
          <p:cNvSpPr/>
          <p:nvPr/>
        </p:nvSpPr>
        <p:spPr>
          <a:xfrm>
            <a:off x="755640" y="981000"/>
            <a:ext cx="720720" cy="647640"/>
          </a:xfrm>
          <a:custGeom>
            <a:avLst/>
            <a:gdLst>
              <a:gd name="textAreaLeft" fmla="*/ 92160 w 720720"/>
              <a:gd name="textAreaRight" fmla="*/ 628560 w 720720"/>
              <a:gd name="textAreaTop" fmla="*/ 92160 h 647640"/>
              <a:gd name="textAreaBottom" fmla="*/ 5554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0961" y="3075"/>
                </a:lnTo>
                <a:lnTo>
                  <a:pt x="3075" y="3075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0961" y="18525"/>
                </a:lnTo>
                <a:lnTo>
                  <a:pt x="20961" y="3075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3075" y="18525"/>
                </a:lnTo>
                <a:lnTo>
                  <a:pt x="20961" y="18525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3075" y="3075"/>
                </a:lnTo>
                <a:lnTo>
                  <a:pt x="3075" y="18525"/>
                </a:lnTo>
                <a:close/>
              </a:path>
            </a:pathLst>
          </a:custGeom>
          <a:gradFill rotWithShape="0">
            <a:gsLst>
              <a:gs pos="0">
                <a:srgbClr val="97cd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 rot="10800000">
            <a:off x="249840" y="1989000"/>
            <a:ext cx="8569080" cy="2232000"/>
          </a:xfrm>
          <a:prstGeom prst="wedgeEllipseCallout">
            <a:avLst>
              <a:gd name="adj1" fmla="val -35828"/>
              <a:gd name="adj2" fmla="val 64504"/>
            </a:avLst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16200000"/>
          </a:gradFill>
          <a:ln w="5724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Оксиды – это сложные вещества общую формулу которых можно записа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>
            <a:hlinkClick r:id="rId8" action="ppaction://hlinksldjump"/>
          </p:cNvPr>
          <p:cNvSpPr/>
          <p:nvPr/>
        </p:nvSpPr>
        <p:spPr>
          <a:xfrm>
            <a:off x="6948360" y="6237360"/>
            <a:ext cx="1979640" cy="433440"/>
          </a:xfrm>
          <a:prstGeom prst="bevel">
            <a:avLst>
              <a:gd name="adj" fmla="val 125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должить иг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859280" y="1052640"/>
            <a:ext cx="34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«Оксид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385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9" dur="385" fill="hold"/>
                                        <p:tgtEl>
                                          <p:spTgt spid="3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1" dur="385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3" dur="385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1000"/>
                            </p:stCondLst>
                            <p:childTnLst>
                              <p:par>
                                <p:cTn id="59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>
            <a:hlinkClick r:id="rId2" action="ppaction://hlinksldjump"/>
          </p:cNvPr>
          <p:cNvSpPr/>
          <p:nvPr/>
        </p:nvSpPr>
        <p:spPr>
          <a:xfrm>
            <a:off x="2411280" y="5373720"/>
            <a:ext cx="4032360" cy="1225440"/>
          </a:xfrm>
          <a:prstGeom prst="ellipse">
            <a:avLst/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5400000"/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>
            <a:hlinkClick r:id="rId3" action="ppaction://hlinksldjump"/>
          </p:cNvPr>
          <p:cNvSpPr/>
          <p:nvPr/>
        </p:nvSpPr>
        <p:spPr>
          <a:xfrm>
            <a:off x="4788000" y="4221000"/>
            <a:ext cx="4032000" cy="1225800"/>
          </a:xfrm>
          <a:prstGeom prst="ellipse">
            <a:avLst/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5400000"/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>
            <a:hlinkClick r:id="rId4" action="ppaction://hlinksldjump"/>
          </p:cNvPr>
          <p:cNvSpPr/>
          <p:nvPr/>
        </p:nvSpPr>
        <p:spPr>
          <a:xfrm>
            <a:off x="324000" y="4221000"/>
            <a:ext cx="4032000" cy="1225800"/>
          </a:xfrm>
          <a:prstGeom prst="ellipse">
            <a:avLst/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5400000"/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68360" y="404640"/>
            <a:ext cx="12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ladimir Script"/>
              </a:rPr>
              <a:t>ИГРА</a:t>
            </a:r>
            <a:endParaRPr b="1" lang="en-US" sz="44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ladimir Script"/>
              <a:ea typeface="Vladimir Scrip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979640" y="404640"/>
            <a:ext cx="1871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ХОЧУ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067280" y="333360"/>
            <a:ext cx="1368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СЁ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5724360" y="404640"/>
            <a:ext cx="2665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НАТЬ!"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7"/>
          <a:stretch/>
        </p:blipFill>
        <p:spPr>
          <a:xfrm>
            <a:off x="2124000" y="907920"/>
            <a:ext cx="6335640" cy="21744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2700360" y="1341360"/>
            <a:ext cx="1152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Gautami"/>
              </a:rPr>
              <a:t>ТЕМА :</a:t>
            </a:r>
            <a:endParaRPr b="1" i="1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Gautami"/>
              <a:ea typeface="Gautami"/>
            </a:endParaRPr>
          </a:p>
        </p:txBody>
      </p:sp>
      <p:sp>
        <p:nvSpPr>
          <p:cNvPr id="331" name=""/>
          <p:cNvSpPr/>
          <p:nvPr/>
        </p:nvSpPr>
        <p:spPr>
          <a:xfrm>
            <a:off x="755640" y="981000"/>
            <a:ext cx="720720" cy="647640"/>
          </a:xfrm>
          <a:custGeom>
            <a:avLst/>
            <a:gdLst>
              <a:gd name="textAreaLeft" fmla="*/ 92160 w 720720"/>
              <a:gd name="textAreaRight" fmla="*/ 628560 w 720720"/>
              <a:gd name="textAreaTop" fmla="*/ 92160 h 647640"/>
              <a:gd name="textAreaBottom" fmla="*/ 5554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0961" y="3075"/>
                </a:lnTo>
                <a:lnTo>
                  <a:pt x="3075" y="3075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0961" y="18525"/>
                </a:lnTo>
                <a:lnTo>
                  <a:pt x="20961" y="3075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3075" y="18525"/>
                </a:lnTo>
                <a:lnTo>
                  <a:pt x="20961" y="18525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3075" y="3075"/>
                </a:lnTo>
                <a:lnTo>
                  <a:pt x="3075" y="18525"/>
                </a:lnTo>
                <a:close/>
              </a:path>
            </a:pathLst>
          </a:custGeom>
          <a:gradFill rotWithShape="0">
            <a:gsLst>
              <a:gs pos="0">
                <a:srgbClr val="97cd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rot="10800000">
            <a:off x="249840" y="1989000"/>
            <a:ext cx="8569080" cy="2232000"/>
          </a:xfrm>
          <a:prstGeom prst="wedgeEllipseCallout">
            <a:avLst>
              <a:gd name="adj1" fmla="val -35828"/>
              <a:gd name="adj2" fmla="val 64504"/>
            </a:avLst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16200000"/>
          </a:gradFill>
          <a:ln w="5724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Со времён Гомера известен этот оксид - бесцветный газ с резким запахом. Одиссей окуривал им помещение, в котором сражался. А в наши дни это соединение выбрасывается в атмосферу металлургическими заводами. Название этого оксида- оксид серы (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V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), а его форму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>
            <a:hlinkClick r:id="rId8" action="ppaction://hlinksldjump"/>
          </p:cNvPr>
          <p:cNvSpPr/>
          <p:nvPr/>
        </p:nvSpPr>
        <p:spPr>
          <a:xfrm>
            <a:off x="6948360" y="6237360"/>
            <a:ext cx="1979640" cy="433440"/>
          </a:xfrm>
          <a:prstGeom prst="bevel">
            <a:avLst>
              <a:gd name="adj" fmla="val 125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должить иг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003640" y="1052640"/>
            <a:ext cx="33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«Оксид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2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385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1" dur="385" fill="hold"/>
                                        <p:tgtEl>
                                          <p:spTgt spid="3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3" dur="385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5" dur="385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1000"/>
                            </p:stCondLst>
                            <p:childTnLst>
                              <p:par>
                                <p:cTn id="63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>
            <a:hlinkClick r:id="rId2" action="ppaction://hlinksldjump"/>
          </p:cNvPr>
          <p:cNvSpPr/>
          <p:nvPr/>
        </p:nvSpPr>
        <p:spPr>
          <a:xfrm>
            <a:off x="2411280" y="5373720"/>
            <a:ext cx="4032360" cy="1225440"/>
          </a:xfrm>
          <a:prstGeom prst="ellipse">
            <a:avLst/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5400000"/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; C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>
            <a:hlinkClick r:id="rId3" action="ppaction://hlinksldjump"/>
          </p:cNvPr>
          <p:cNvSpPr/>
          <p:nvPr/>
        </p:nvSpPr>
        <p:spPr>
          <a:xfrm>
            <a:off x="4788000" y="4221000"/>
            <a:ext cx="4032000" cy="1225800"/>
          </a:xfrm>
          <a:prstGeom prst="ellipse">
            <a:avLst/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5400000"/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 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O; K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>
            <a:hlinkClick r:id="rId4" action="ppaction://hlinksldjump"/>
          </p:cNvPr>
          <p:cNvSpPr/>
          <p:nvPr/>
        </p:nvSpPr>
        <p:spPr>
          <a:xfrm>
            <a:off x="324000" y="4221000"/>
            <a:ext cx="4032000" cy="1225800"/>
          </a:xfrm>
          <a:prstGeom prst="ellipse">
            <a:avLst/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5400000"/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N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; 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68360" y="404640"/>
            <a:ext cx="12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ladimir Script"/>
              </a:rPr>
              <a:t>ИГРА</a:t>
            </a:r>
            <a:endParaRPr b="1" lang="en-US" sz="44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ladimir Script"/>
              <a:ea typeface="Vladimir Scrip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979640" y="404640"/>
            <a:ext cx="1871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ХОЧУ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067280" y="333360"/>
            <a:ext cx="1368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СЁ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724360" y="404640"/>
            <a:ext cx="2665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НАТЬ!"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7"/>
          <a:stretch/>
        </p:blipFill>
        <p:spPr>
          <a:xfrm>
            <a:off x="2124000" y="907920"/>
            <a:ext cx="6335640" cy="2174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2700360" y="1341360"/>
            <a:ext cx="1152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Gautami"/>
              </a:rPr>
              <a:t>ТЕМА :</a:t>
            </a:r>
            <a:endParaRPr b="1" i="1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Gautami"/>
              <a:ea typeface="Gautami"/>
            </a:endParaRPr>
          </a:p>
        </p:txBody>
      </p:sp>
      <p:sp>
        <p:nvSpPr>
          <p:cNvPr id="344" name=""/>
          <p:cNvSpPr/>
          <p:nvPr/>
        </p:nvSpPr>
        <p:spPr>
          <a:xfrm>
            <a:off x="755640" y="981000"/>
            <a:ext cx="720720" cy="647640"/>
          </a:xfrm>
          <a:custGeom>
            <a:avLst/>
            <a:gdLst>
              <a:gd name="textAreaLeft" fmla="*/ 92160 w 720720"/>
              <a:gd name="textAreaRight" fmla="*/ 628560 w 720720"/>
              <a:gd name="textAreaTop" fmla="*/ 92160 h 647640"/>
              <a:gd name="textAreaBottom" fmla="*/ 5554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0961" y="3075"/>
                </a:lnTo>
                <a:lnTo>
                  <a:pt x="3075" y="3075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0961" y="18525"/>
                </a:lnTo>
                <a:lnTo>
                  <a:pt x="20961" y="3075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3075" y="18525"/>
                </a:lnTo>
                <a:lnTo>
                  <a:pt x="20961" y="18525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3075" y="3075"/>
                </a:lnTo>
                <a:lnTo>
                  <a:pt x="3075" y="18525"/>
                </a:lnTo>
                <a:close/>
              </a:path>
            </a:pathLst>
          </a:custGeom>
          <a:gradFill rotWithShape="0">
            <a:gsLst>
              <a:gs pos="0">
                <a:srgbClr val="97cd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 rot="10800000">
            <a:off x="755640" y="1989000"/>
            <a:ext cx="7632720" cy="2232000"/>
          </a:xfrm>
          <a:prstGeom prst="wedgeEllipseCallout">
            <a:avLst>
              <a:gd name="adj1" fmla="val -40745"/>
              <a:gd name="adj2" fmla="val 64504"/>
            </a:avLst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16200000"/>
          </a:gradFill>
          <a:ln w="5724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Из основных оксидов можно составить формулы оснований. Основные оксиды находятся в пар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>
            <a:hlinkClick r:id="rId8" action="ppaction://hlinksldjump"/>
          </p:cNvPr>
          <p:cNvSpPr/>
          <p:nvPr/>
        </p:nvSpPr>
        <p:spPr>
          <a:xfrm>
            <a:off x="6948360" y="6237360"/>
            <a:ext cx="1979640" cy="433440"/>
          </a:xfrm>
          <a:prstGeom prst="bevel">
            <a:avLst>
              <a:gd name="adj" fmla="val 125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должить иг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572000" y="105264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«Оксид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385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3" dur="385" fill="hold"/>
                                        <p:tgtEl>
                                          <p:spTgt spid="3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5" dur="385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7" dur="385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1000"/>
                            </p:stCondLst>
                            <p:childTnLst>
                              <p:par>
                                <p:cTn id="68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>
            <a:hlinkClick r:id="rId2" action="ppaction://hlinksldjump"/>
          </p:cNvPr>
          <p:cNvSpPr/>
          <p:nvPr/>
        </p:nvSpPr>
        <p:spPr>
          <a:xfrm>
            <a:off x="2411280" y="5373720"/>
            <a:ext cx="4032360" cy="1225440"/>
          </a:xfrm>
          <a:prstGeom prst="ellipse">
            <a:avLst/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5400000"/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>
            <a:hlinkClick r:id="rId3" action="ppaction://hlinksldjump"/>
          </p:cNvPr>
          <p:cNvSpPr/>
          <p:nvPr/>
        </p:nvSpPr>
        <p:spPr>
          <a:xfrm>
            <a:off x="4788000" y="4221000"/>
            <a:ext cx="4032000" cy="1225800"/>
          </a:xfrm>
          <a:prstGeom prst="ellipse">
            <a:avLst/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5400000"/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>
            <a:hlinkClick r:id="rId4" action="ppaction://hlinksldjump"/>
          </p:cNvPr>
          <p:cNvSpPr/>
          <p:nvPr/>
        </p:nvSpPr>
        <p:spPr>
          <a:xfrm>
            <a:off x="324000" y="4149720"/>
            <a:ext cx="4032000" cy="1150920"/>
          </a:xfrm>
          <a:prstGeom prst="ellipse">
            <a:avLst/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5400000"/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68360" y="404640"/>
            <a:ext cx="12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ladimir Script"/>
              </a:rPr>
              <a:t>ИГРА</a:t>
            </a:r>
            <a:endParaRPr b="1" lang="en-US" sz="44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ladimir Script"/>
              <a:ea typeface="Vladimir Scrip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979640" y="404640"/>
            <a:ext cx="1871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ХОЧУ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067280" y="333360"/>
            <a:ext cx="1368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СЁ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5724360" y="404640"/>
            <a:ext cx="2665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НАТЬ!"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7"/>
          <a:stretch/>
        </p:blipFill>
        <p:spPr>
          <a:xfrm>
            <a:off x="2124000" y="907920"/>
            <a:ext cx="6335640" cy="21744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2700360" y="1341360"/>
            <a:ext cx="1152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Gautami"/>
              </a:rPr>
              <a:t>ТЕМА :</a:t>
            </a:r>
            <a:endParaRPr b="1" i="1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Gautami"/>
              <a:ea typeface="Gautami"/>
            </a:endParaRPr>
          </a:p>
        </p:txBody>
      </p:sp>
      <p:sp>
        <p:nvSpPr>
          <p:cNvPr id="357" name=""/>
          <p:cNvSpPr/>
          <p:nvPr/>
        </p:nvSpPr>
        <p:spPr>
          <a:xfrm>
            <a:off x="755640" y="981000"/>
            <a:ext cx="720720" cy="647640"/>
          </a:xfrm>
          <a:custGeom>
            <a:avLst/>
            <a:gdLst>
              <a:gd name="textAreaLeft" fmla="*/ 92160 w 720720"/>
              <a:gd name="textAreaRight" fmla="*/ 628560 w 720720"/>
              <a:gd name="textAreaTop" fmla="*/ 92160 h 647640"/>
              <a:gd name="textAreaBottom" fmla="*/ 5554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0961" y="3075"/>
                </a:lnTo>
                <a:lnTo>
                  <a:pt x="3075" y="3075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0961" y="18525"/>
                </a:lnTo>
                <a:lnTo>
                  <a:pt x="20961" y="3075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3075" y="18525"/>
                </a:lnTo>
                <a:lnTo>
                  <a:pt x="20961" y="18525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3075" y="3075"/>
                </a:lnTo>
                <a:lnTo>
                  <a:pt x="3075" y="18525"/>
                </a:lnTo>
                <a:close/>
              </a:path>
            </a:pathLst>
          </a:custGeom>
          <a:gradFill rotWithShape="0">
            <a:gsLst>
              <a:gs pos="0">
                <a:srgbClr val="97cd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 rot="10800000">
            <a:off x="249840" y="1989000"/>
            <a:ext cx="8569080" cy="1511280"/>
          </a:xfrm>
          <a:prstGeom prst="wedgeEllipseCallout">
            <a:avLst>
              <a:gd name="adj1" fmla="val -35884"/>
              <a:gd name="adj2" fmla="val 71425"/>
            </a:avLst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16200000"/>
          </a:gradFill>
          <a:ln w="5724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Кислотным оксидам соответствуют кислотные гидроксиды, или просто кислоты. Формула кислотного окси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>
            <a:hlinkClick r:id="rId8" action="ppaction://hlinksldjump"/>
          </p:cNvPr>
          <p:cNvSpPr/>
          <p:nvPr/>
        </p:nvSpPr>
        <p:spPr>
          <a:xfrm>
            <a:off x="6948360" y="6237360"/>
            <a:ext cx="1979640" cy="433440"/>
          </a:xfrm>
          <a:prstGeom prst="bevel">
            <a:avLst>
              <a:gd name="adj" fmla="val 125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должить иг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859280" y="1052640"/>
            <a:ext cx="28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«Оксид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411280" y="5373720"/>
            <a:ext cx="4032360" cy="1225440"/>
          </a:xfrm>
          <a:prstGeom prst="ellipse">
            <a:avLst/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5400000"/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788000" y="4221000"/>
            <a:ext cx="4032000" cy="1224000"/>
          </a:xfrm>
          <a:prstGeom prst="ellipse">
            <a:avLst/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5400000"/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N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0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1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385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5" dur="385" fill="hold"/>
                                        <p:tgtEl>
                                          <p:spTgt spid="3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7" dur="385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9" dur="385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>
            <a:hlinkClick r:id="rId2" action="ppaction://hlinksldjump"/>
          </p:cNvPr>
          <p:cNvSpPr/>
          <p:nvPr/>
        </p:nvSpPr>
        <p:spPr>
          <a:xfrm>
            <a:off x="2050920" y="5373720"/>
            <a:ext cx="4824720" cy="1225440"/>
          </a:xfrm>
          <a:prstGeom prst="ellipse">
            <a:avLst/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5400000"/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) Э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>
            <a:hlinkClick r:id="rId3" action="ppaction://hlinksldjump"/>
          </p:cNvPr>
          <p:cNvSpPr/>
          <p:nvPr/>
        </p:nvSpPr>
        <p:spPr>
          <a:xfrm>
            <a:off x="4788000" y="4149720"/>
            <a:ext cx="4356000" cy="1225440"/>
          </a:xfrm>
          <a:prstGeom prst="ellipse">
            <a:avLst/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5400000"/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) Э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>
            <a:hlinkClick r:id="rId4" action="ppaction://hlinksldjump"/>
          </p:cNvPr>
          <p:cNvSpPr/>
          <p:nvPr/>
        </p:nvSpPr>
        <p:spPr>
          <a:xfrm>
            <a:off x="324000" y="4149720"/>
            <a:ext cx="4319280" cy="1225440"/>
          </a:xfrm>
          <a:prstGeom prst="ellipse">
            <a:avLst/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5400000"/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) ЭО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68360" y="404640"/>
            <a:ext cx="12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ladimir Script"/>
              </a:rPr>
              <a:t>ИГРА</a:t>
            </a:r>
            <a:endParaRPr b="1" lang="en-US" sz="44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ladimir Script"/>
              <a:ea typeface="Vladimir Scrip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979640" y="404640"/>
            <a:ext cx="1871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ХОЧУ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067280" y="333360"/>
            <a:ext cx="1368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СЁ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5724360" y="404640"/>
            <a:ext cx="2665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НАТЬ!"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7"/>
          <a:stretch/>
        </p:blipFill>
        <p:spPr>
          <a:xfrm>
            <a:off x="2124000" y="907920"/>
            <a:ext cx="6335640" cy="21744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 txBox="1"/>
          <p:nvPr/>
        </p:nvSpPr>
        <p:spPr>
          <a:xfrm>
            <a:off x="2700360" y="1341360"/>
            <a:ext cx="1152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Gautami"/>
              </a:rPr>
              <a:t>ТЕМА :</a:t>
            </a:r>
            <a:endParaRPr b="1" i="1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Gautami"/>
              <a:ea typeface="Gautami"/>
            </a:endParaRPr>
          </a:p>
        </p:txBody>
      </p:sp>
      <p:sp>
        <p:nvSpPr>
          <p:cNvPr id="372" name=""/>
          <p:cNvSpPr/>
          <p:nvPr/>
        </p:nvSpPr>
        <p:spPr>
          <a:xfrm>
            <a:off x="755640" y="981000"/>
            <a:ext cx="720720" cy="647640"/>
          </a:xfrm>
          <a:custGeom>
            <a:avLst/>
            <a:gdLst>
              <a:gd name="textAreaLeft" fmla="*/ 92160 w 720720"/>
              <a:gd name="textAreaRight" fmla="*/ 628560 w 720720"/>
              <a:gd name="textAreaTop" fmla="*/ 92160 h 647640"/>
              <a:gd name="textAreaBottom" fmla="*/ 5554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0961" y="3075"/>
                </a:lnTo>
                <a:lnTo>
                  <a:pt x="3075" y="3075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0961" y="18525"/>
                </a:lnTo>
                <a:lnTo>
                  <a:pt x="20961" y="3075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3075" y="18525"/>
                </a:lnTo>
                <a:lnTo>
                  <a:pt x="20961" y="18525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3075" y="3075"/>
                </a:lnTo>
                <a:lnTo>
                  <a:pt x="3075" y="18525"/>
                </a:lnTo>
                <a:close/>
              </a:path>
            </a:pathLst>
          </a:custGeom>
          <a:gradFill rotWithShape="0">
            <a:gsLst>
              <a:gs pos="0">
                <a:srgbClr val="97cd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 rot="10800000">
            <a:off x="249840" y="1773000"/>
            <a:ext cx="8569080" cy="2376360"/>
          </a:xfrm>
          <a:prstGeom prst="wedgeEllipseCallout">
            <a:avLst>
              <a:gd name="adj1" fmla="val -35884"/>
              <a:gd name="adj2" fmla="val 54407"/>
            </a:avLst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16200000"/>
          </a:gradFill>
          <a:ln w="5724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Элемент в П.С.Х.Э. находится  в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2-ом периоде,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V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-А группе. Формула его высшего оксида имеет вид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>
            <a:hlinkClick r:id="rId8" action="ppaction://hlinksldjump"/>
          </p:cNvPr>
          <p:cNvSpPr/>
          <p:nvPr/>
        </p:nvSpPr>
        <p:spPr>
          <a:xfrm>
            <a:off x="6948360" y="6237360"/>
            <a:ext cx="1979640" cy="433440"/>
          </a:xfrm>
          <a:prstGeom prst="bevel">
            <a:avLst>
              <a:gd name="adj" fmla="val 125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должить иг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859280" y="1052640"/>
            <a:ext cx="302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«Оксид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0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6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385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9" dur="385" fill="hold"/>
                                        <p:tgtEl>
                                          <p:spTgt spid="3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1" dur="385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3" dur="385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7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>
            <a:hlinkClick r:id="rId2" action="ppaction://hlinksldjump"/>
          </p:cNvPr>
          <p:cNvSpPr/>
          <p:nvPr/>
        </p:nvSpPr>
        <p:spPr>
          <a:xfrm>
            <a:off x="2411280" y="5373720"/>
            <a:ext cx="4032360" cy="1225440"/>
          </a:xfrm>
          <a:prstGeom prst="ellipse">
            <a:avLst/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5400000"/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>
            <a:hlinkClick r:id="rId3" action="ppaction://hlinksldjump"/>
          </p:cNvPr>
          <p:cNvSpPr/>
          <p:nvPr/>
        </p:nvSpPr>
        <p:spPr>
          <a:xfrm>
            <a:off x="4788000" y="4221000"/>
            <a:ext cx="4032000" cy="1225800"/>
          </a:xfrm>
          <a:prstGeom prst="ellipse">
            <a:avLst/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5400000"/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>
            <a:hlinkClick r:id="rId4" action="ppaction://hlinksldjump"/>
          </p:cNvPr>
          <p:cNvSpPr/>
          <p:nvPr/>
        </p:nvSpPr>
        <p:spPr>
          <a:xfrm>
            <a:off x="324000" y="4221000"/>
            <a:ext cx="4032000" cy="1225800"/>
          </a:xfrm>
          <a:prstGeom prst="ellipse">
            <a:avLst/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5400000"/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) РО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68360" y="404640"/>
            <a:ext cx="12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ladimir Script"/>
              </a:rPr>
              <a:t>ИГРА</a:t>
            </a:r>
            <a:endParaRPr b="1" lang="en-US" sz="44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ladimir Script"/>
              <a:ea typeface="Vladimir Scrip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979640" y="404640"/>
            <a:ext cx="1871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ХОЧУ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067280" y="333360"/>
            <a:ext cx="1368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СЁ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5724360" y="404640"/>
            <a:ext cx="2665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НАТЬ!"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7"/>
          <a:stretch/>
        </p:blipFill>
        <p:spPr>
          <a:xfrm>
            <a:off x="2124000" y="907920"/>
            <a:ext cx="6335640" cy="21744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2700360" y="1341360"/>
            <a:ext cx="1152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Gautami"/>
              </a:rPr>
              <a:t>ТЕМА :</a:t>
            </a:r>
            <a:endParaRPr b="1" i="1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Gautami"/>
              <a:ea typeface="Gautami"/>
            </a:endParaRPr>
          </a:p>
        </p:txBody>
      </p:sp>
      <p:sp>
        <p:nvSpPr>
          <p:cNvPr id="385" name=""/>
          <p:cNvSpPr/>
          <p:nvPr/>
        </p:nvSpPr>
        <p:spPr>
          <a:xfrm>
            <a:off x="755640" y="981000"/>
            <a:ext cx="720720" cy="647640"/>
          </a:xfrm>
          <a:custGeom>
            <a:avLst/>
            <a:gdLst>
              <a:gd name="textAreaLeft" fmla="*/ 92160 w 720720"/>
              <a:gd name="textAreaRight" fmla="*/ 628560 w 720720"/>
              <a:gd name="textAreaTop" fmla="*/ 92160 h 647640"/>
              <a:gd name="textAreaBottom" fmla="*/ 5554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0961" y="3075"/>
                </a:lnTo>
                <a:lnTo>
                  <a:pt x="3075" y="3075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0961" y="18525"/>
                </a:lnTo>
                <a:lnTo>
                  <a:pt x="20961" y="3075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3075" y="18525"/>
                </a:lnTo>
                <a:lnTo>
                  <a:pt x="20961" y="18525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3075" y="3075"/>
                </a:lnTo>
                <a:lnTo>
                  <a:pt x="3075" y="18525"/>
                </a:lnTo>
                <a:close/>
              </a:path>
            </a:pathLst>
          </a:custGeom>
          <a:gradFill rotWithShape="0">
            <a:gsLst>
              <a:gs pos="0">
                <a:srgbClr val="97cd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H="1" rot="10800000">
            <a:off x="249840" y="2276280"/>
            <a:ext cx="8569080" cy="1439640"/>
          </a:xfrm>
          <a:prstGeom prst="wedgeEllipseCallout">
            <a:avLst>
              <a:gd name="adj1" fmla="val -35902"/>
              <a:gd name="adj2" fmla="val 112291"/>
            </a:avLst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16200000"/>
          </a:gradFill>
          <a:ln w="5724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Найдите ошибку в написании формулы оксида      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>
            <a:hlinkClick r:id="rId8" action="ppaction://hlinksldjump"/>
          </p:cNvPr>
          <p:cNvSpPr/>
          <p:nvPr/>
        </p:nvSpPr>
        <p:spPr>
          <a:xfrm>
            <a:off x="6948360" y="6237360"/>
            <a:ext cx="1979640" cy="433440"/>
          </a:xfrm>
          <a:prstGeom prst="bevel">
            <a:avLst>
              <a:gd name="adj" fmla="val 125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должить иг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859280" y="1052640"/>
            <a:ext cx="302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«Оксид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0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385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1" dur="385" fill="hold"/>
                                        <p:tgtEl>
                                          <p:spTgt spid="3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3" dur="385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1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5" dur="385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1000"/>
                            </p:stCondLst>
                            <p:childTnLst>
                              <p:par>
                                <p:cTn id="81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>
            <a:hlinkClick r:id="rId2" action="ppaction://hlinksldjump"/>
          </p:cNvPr>
          <p:cNvSpPr/>
          <p:nvPr/>
        </p:nvSpPr>
        <p:spPr>
          <a:xfrm>
            <a:off x="2411280" y="5373720"/>
            <a:ext cx="4032360" cy="1225440"/>
          </a:xfrm>
          <a:prstGeom prst="ellipse">
            <a:avLst/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5400000"/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) 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>
            <a:hlinkClick r:id="rId3" action="ppaction://hlinksldjump"/>
          </p:cNvPr>
          <p:cNvSpPr/>
          <p:nvPr/>
        </p:nvSpPr>
        <p:spPr>
          <a:xfrm>
            <a:off x="4788000" y="4221000"/>
            <a:ext cx="4032000" cy="1225800"/>
          </a:xfrm>
          <a:prstGeom prst="ellipse">
            <a:avLst/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5400000"/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) 1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>
            <a:hlinkClick r:id="rId4" action="ppaction://hlinksldjump"/>
          </p:cNvPr>
          <p:cNvSpPr/>
          <p:nvPr/>
        </p:nvSpPr>
        <p:spPr>
          <a:xfrm>
            <a:off x="324000" y="4221000"/>
            <a:ext cx="4032000" cy="1225800"/>
          </a:xfrm>
          <a:prstGeom prst="ellipse">
            <a:avLst/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5400000"/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) 6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68360" y="404640"/>
            <a:ext cx="12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ladimir Script"/>
              </a:rPr>
              <a:t>ИГРА</a:t>
            </a:r>
            <a:endParaRPr b="1" lang="en-US" sz="44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ladimir Script"/>
              <a:ea typeface="Vladimir Script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1979640" y="404640"/>
            <a:ext cx="1871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ХОЧУ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067280" y="333360"/>
            <a:ext cx="1368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СЁ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5724360" y="404640"/>
            <a:ext cx="2665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НАТЬ!"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7"/>
          <a:stretch/>
        </p:blipFill>
        <p:spPr>
          <a:xfrm>
            <a:off x="2124000" y="907920"/>
            <a:ext cx="6335640" cy="21744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2700360" y="1341360"/>
            <a:ext cx="1152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Gautami"/>
              </a:rPr>
              <a:t>ТЕМА :</a:t>
            </a:r>
            <a:endParaRPr b="1" i="1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Gautami"/>
              <a:ea typeface="Gautami"/>
            </a:endParaRPr>
          </a:p>
        </p:txBody>
      </p:sp>
      <p:sp>
        <p:nvSpPr>
          <p:cNvPr id="398" name=""/>
          <p:cNvSpPr/>
          <p:nvPr/>
        </p:nvSpPr>
        <p:spPr>
          <a:xfrm>
            <a:off x="755640" y="981000"/>
            <a:ext cx="720720" cy="647640"/>
          </a:xfrm>
          <a:custGeom>
            <a:avLst/>
            <a:gdLst>
              <a:gd name="textAreaLeft" fmla="*/ 92160 w 720720"/>
              <a:gd name="textAreaRight" fmla="*/ 628560 w 720720"/>
              <a:gd name="textAreaTop" fmla="*/ 92160 h 647640"/>
              <a:gd name="textAreaBottom" fmla="*/ 5554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0961" y="3075"/>
                </a:lnTo>
                <a:lnTo>
                  <a:pt x="3075" y="3075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0961" y="18525"/>
                </a:lnTo>
                <a:lnTo>
                  <a:pt x="20961" y="3075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3075" y="18525"/>
                </a:lnTo>
                <a:lnTo>
                  <a:pt x="20961" y="18525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3075" y="3075"/>
                </a:lnTo>
                <a:lnTo>
                  <a:pt x="3075" y="18525"/>
                </a:lnTo>
                <a:close/>
              </a:path>
            </a:pathLst>
          </a:custGeom>
          <a:gradFill rotWithShape="0">
            <a:gsLst>
              <a:gs pos="0">
                <a:srgbClr val="97cd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H="1" rot="10800000">
            <a:off x="683280" y="2133360"/>
            <a:ext cx="7559640" cy="1726920"/>
          </a:xfrm>
          <a:prstGeom prst="wedgeEllipseCallout">
            <a:avLst>
              <a:gd name="adj1" fmla="val -39861"/>
              <a:gd name="adj2" fmla="val 76837"/>
            </a:avLst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16200000"/>
          </a:gradFill>
          <a:ln w="5724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Относительная молекулярная масса Р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О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 Narrow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рав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>
            <a:hlinkClick r:id="rId8" action="ppaction://hlinksldjump"/>
          </p:cNvPr>
          <p:cNvSpPr/>
          <p:nvPr/>
        </p:nvSpPr>
        <p:spPr>
          <a:xfrm>
            <a:off x="6948360" y="6237360"/>
            <a:ext cx="1979640" cy="433440"/>
          </a:xfrm>
          <a:prstGeom prst="bevel">
            <a:avLst>
              <a:gd name="adj" fmla="val 125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должить иг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067280" y="971640"/>
            <a:ext cx="50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«Химические величин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0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4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385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3" dur="385" fill="hold"/>
                                        <p:tgtEl>
                                          <p:spTgt spid="3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5" dur="385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7" dur="385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1000"/>
                            </p:stCondLst>
                            <p:childTnLst>
                              <p:par>
                                <p:cTn id="86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>
            <a:hlinkClick r:id="rId2" action="ppaction://hlinksldjump"/>
          </p:cNvPr>
          <p:cNvSpPr/>
          <p:nvPr/>
        </p:nvSpPr>
        <p:spPr>
          <a:xfrm>
            <a:off x="2411280" y="5661000"/>
            <a:ext cx="4032360" cy="936720"/>
          </a:xfrm>
          <a:prstGeom prst="ellipse">
            <a:avLst/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5400000"/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48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>
            <a:hlinkClick r:id="rId3" action="ppaction://hlinksldjump"/>
          </p:cNvPr>
          <p:cNvSpPr/>
          <p:nvPr/>
        </p:nvSpPr>
        <p:spPr>
          <a:xfrm>
            <a:off x="4716360" y="4437000"/>
            <a:ext cx="4032360" cy="1009800"/>
          </a:xfrm>
          <a:prstGeom prst="ellipse">
            <a:avLst/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5400000"/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7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>
            <a:hlinkClick r:id="rId4" action="ppaction://hlinksldjump"/>
          </p:cNvPr>
          <p:cNvSpPr/>
          <p:nvPr/>
        </p:nvSpPr>
        <p:spPr>
          <a:xfrm>
            <a:off x="250920" y="4437000"/>
            <a:ext cx="4032000" cy="1009800"/>
          </a:xfrm>
          <a:prstGeom prst="ellipse">
            <a:avLst/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5400000"/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96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68360" y="404640"/>
            <a:ext cx="12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ladimir Script"/>
              </a:rPr>
              <a:t>ИГРА</a:t>
            </a:r>
            <a:endParaRPr b="1" lang="en-US" sz="44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ladimir Script"/>
              <a:ea typeface="Vladimir Scrip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979640" y="404640"/>
            <a:ext cx="1871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ХОЧУ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067280" y="333360"/>
            <a:ext cx="1368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СЁ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724360" y="404640"/>
            <a:ext cx="2665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НАТЬ!"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7"/>
          <a:stretch/>
        </p:blipFill>
        <p:spPr>
          <a:xfrm>
            <a:off x="2124000" y="907920"/>
            <a:ext cx="6335640" cy="21744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2700360" y="1341360"/>
            <a:ext cx="1152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Gautami"/>
              </a:rPr>
              <a:t>ТЕМА :</a:t>
            </a:r>
            <a:endParaRPr b="1" i="1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Gautami"/>
              <a:ea typeface="Gautami"/>
            </a:endParaRPr>
          </a:p>
        </p:txBody>
      </p:sp>
      <p:sp>
        <p:nvSpPr>
          <p:cNvPr id="411" name=""/>
          <p:cNvSpPr/>
          <p:nvPr/>
        </p:nvSpPr>
        <p:spPr>
          <a:xfrm>
            <a:off x="755640" y="981000"/>
            <a:ext cx="720720" cy="647640"/>
          </a:xfrm>
          <a:custGeom>
            <a:avLst/>
            <a:gdLst>
              <a:gd name="textAreaLeft" fmla="*/ 92160 w 720720"/>
              <a:gd name="textAreaRight" fmla="*/ 628560 w 720720"/>
              <a:gd name="textAreaTop" fmla="*/ 92160 h 647640"/>
              <a:gd name="textAreaBottom" fmla="*/ 5554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0961" y="3075"/>
                </a:lnTo>
                <a:lnTo>
                  <a:pt x="3075" y="3075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0961" y="18525"/>
                </a:lnTo>
                <a:lnTo>
                  <a:pt x="20961" y="3075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3075" y="18525"/>
                </a:lnTo>
                <a:lnTo>
                  <a:pt x="20961" y="18525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3075" y="3075"/>
                </a:lnTo>
                <a:lnTo>
                  <a:pt x="3075" y="18525"/>
                </a:lnTo>
                <a:close/>
              </a:path>
            </a:pathLst>
          </a:custGeom>
          <a:gradFill rotWithShape="0">
            <a:gsLst>
              <a:gs pos="0">
                <a:srgbClr val="97cd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H="1" rot="10800000">
            <a:off x="826920" y="2349360"/>
            <a:ext cx="7490160" cy="1511280"/>
          </a:xfrm>
          <a:prstGeom prst="wedgeEllipseCallout">
            <a:avLst>
              <a:gd name="adj1" fmla="val -41712"/>
              <a:gd name="adj2" fmla="val 95060"/>
            </a:avLst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16200000"/>
          </a:gradFill>
          <a:ln w="5724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Какую массу имеют 1,5 моль оксида серы (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V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>
            <a:hlinkClick r:id="rId8" action="ppaction://hlinksldjump"/>
          </p:cNvPr>
          <p:cNvSpPr/>
          <p:nvPr/>
        </p:nvSpPr>
        <p:spPr>
          <a:xfrm>
            <a:off x="6948360" y="6237360"/>
            <a:ext cx="1979640" cy="433440"/>
          </a:xfrm>
          <a:prstGeom prst="bevel">
            <a:avLst>
              <a:gd name="adj" fmla="val 125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должит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г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284720" y="105264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«Химические величин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0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9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385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5" dur="385" fill="hold"/>
                                        <p:tgtEl>
                                          <p:spTgt spid="4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9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7" dur="385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9" dur="385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1000"/>
                            </p:stCondLst>
                            <p:childTnLst>
                              <p:par>
                                <p:cTn id="90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>
            <a:hlinkClick r:id="rId2" action="ppaction://hlinksldjump"/>
          </p:cNvPr>
          <p:cNvSpPr/>
          <p:nvPr/>
        </p:nvSpPr>
        <p:spPr>
          <a:xfrm>
            <a:off x="2411280" y="5373720"/>
            <a:ext cx="4032360" cy="1225440"/>
          </a:xfrm>
          <a:prstGeom prst="ellipse">
            <a:avLst/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5400000"/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)2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>
            <a:hlinkClick r:id="rId3" action="ppaction://hlinksldjump"/>
          </p:cNvPr>
          <p:cNvSpPr/>
          <p:nvPr/>
        </p:nvSpPr>
        <p:spPr>
          <a:xfrm>
            <a:off x="4788000" y="4221000"/>
            <a:ext cx="4032000" cy="1225800"/>
          </a:xfrm>
          <a:prstGeom prst="ellipse">
            <a:avLst/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5400000"/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) 3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>
            <a:hlinkClick r:id="rId4" action="ppaction://hlinksldjump"/>
          </p:cNvPr>
          <p:cNvSpPr/>
          <p:nvPr/>
        </p:nvSpPr>
        <p:spPr>
          <a:xfrm>
            <a:off x="324000" y="4221000"/>
            <a:ext cx="4032000" cy="1225800"/>
          </a:xfrm>
          <a:prstGeom prst="ellipse">
            <a:avLst/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5400000"/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 6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ru-RU" sz="3200" spc="-1" strike="noStrike" baseline="30000">
                <a:solidFill>
                  <a:srgbClr val="000000"/>
                </a:solidFill>
                <a:latin typeface="Arial"/>
              </a:rPr>
              <a:t>2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68360" y="404640"/>
            <a:ext cx="12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ladimir Script"/>
              </a:rPr>
              <a:t>ИГРА</a:t>
            </a:r>
            <a:endParaRPr b="1" lang="en-US" sz="44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ladimir Script"/>
              <a:ea typeface="Vladimir Script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979640" y="404640"/>
            <a:ext cx="1871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ХОЧУ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067280" y="333360"/>
            <a:ext cx="1368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СЁ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5724360" y="404640"/>
            <a:ext cx="2665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НАТЬ!"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7"/>
          <a:stretch/>
        </p:blipFill>
        <p:spPr>
          <a:xfrm>
            <a:off x="2124000" y="907920"/>
            <a:ext cx="6335640" cy="21744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2700360" y="1341360"/>
            <a:ext cx="1152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Gautami"/>
              </a:rPr>
              <a:t>ТЕМА :</a:t>
            </a:r>
            <a:endParaRPr b="1" i="1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Gautami"/>
              <a:ea typeface="Gautami"/>
            </a:endParaRPr>
          </a:p>
        </p:txBody>
      </p:sp>
      <p:sp>
        <p:nvSpPr>
          <p:cNvPr id="424" name=""/>
          <p:cNvSpPr/>
          <p:nvPr/>
        </p:nvSpPr>
        <p:spPr>
          <a:xfrm>
            <a:off x="755640" y="981000"/>
            <a:ext cx="720720" cy="647640"/>
          </a:xfrm>
          <a:custGeom>
            <a:avLst/>
            <a:gdLst>
              <a:gd name="textAreaLeft" fmla="*/ 92160 w 720720"/>
              <a:gd name="textAreaRight" fmla="*/ 628560 w 720720"/>
              <a:gd name="textAreaTop" fmla="*/ 92160 h 647640"/>
              <a:gd name="textAreaBottom" fmla="*/ 5554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0961" y="3075"/>
                </a:lnTo>
                <a:lnTo>
                  <a:pt x="3075" y="3075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0961" y="18525"/>
                </a:lnTo>
                <a:lnTo>
                  <a:pt x="20961" y="3075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3075" y="18525"/>
                </a:lnTo>
                <a:lnTo>
                  <a:pt x="20961" y="18525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3075" y="3075"/>
                </a:lnTo>
                <a:lnTo>
                  <a:pt x="3075" y="18525"/>
                </a:lnTo>
                <a:close/>
              </a:path>
            </a:pathLst>
          </a:custGeom>
          <a:gradFill rotWithShape="0">
            <a:gsLst>
              <a:gs pos="0">
                <a:srgbClr val="97cd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rot="10800000">
            <a:off x="249840" y="1989000"/>
            <a:ext cx="8569080" cy="1656000"/>
          </a:xfrm>
          <a:prstGeom prst="wedgeEllipseCallout">
            <a:avLst>
              <a:gd name="adj1" fmla="val -35847"/>
              <a:gd name="adj2" fmla="val 69555"/>
            </a:avLst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16200000"/>
          </a:gradFill>
          <a:ln w="5724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В порции кальция массой 20г число атомов рав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>
            <a:hlinkClick r:id="rId8" action="ppaction://hlinksldjump"/>
          </p:cNvPr>
          <p:cNvSpPr/>
          <p:nvPr/>
        </p:nvSpPr>
        <p:spPr>
          <a:xfrm>
            <a:off x="6948360" y="6237360"/>
            <a:ext cx="1979640" cy="433440"/>
          </a:xfrm>
          <a:prstGeom prst="bevel">
            <a:avLst>
              <a:gd name="adj" fmla="val 125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должить иг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643280" y="112536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«Химические величин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fill="hold">
                      <p:stCondLst>
                        <p:cond delay="0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3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385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7" dur="385" fill="hold"/>
                                        <p:tgtEl>
                                          <p:spTgt spid="4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39" dur="385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4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1" dur="385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4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5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419280" y="2205000"/>
            <a:ext cx="439236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14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Elephant"/>
              </a:rPr>
              <a:t>В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14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Elephant"/>
              </a:rPr>
              <a:t>зарабатывае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14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Demi"/>
              </a:rPr>
              <a:t>10</a:t>
            </a:r>
            <a:r>
              <a:rPr b="1" lang="en-US" sz="4900" spc="-1" strike="noStrike">
                <a:solidFill>
                  <a:srgbClr val="ff0000"/>
                </a:solidFill>
                <a:latin typeface="Franklin Gothic Demi"/>
              </a:rPr>
              <a:t> </a:t>
            </a:r>
            <a:r>
              <a:rPr b="1" i="1" lang="en-US" sz="4100" spc="-1" strike="noStrike">
                <a:solidFill>
                  <a:srgbClr val="ff0000"/>
                </a:solidFill>
                <a:latin typeface="Courier New"/>
              </a:rPr>
              <a:t>баллов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403280" y="627120"/>
            <a:ext cx="1513080" cy="9716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042920" y="2492280"/>
            <a:ext cx="1728720" cy="3294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 flipH="1">
            <a:off x="6732360" y="620640"/>
            <a:ext cx="1657080" cy="9478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2771640" y="836640"/>
            <a:ext cx="41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_PresentumNrSh"/>
              </a:rPr>
              <a:t>ответ верный !</a:t>
            </a:r>
            <a:endParaRPr b="0" lang="en-US" sz="1800" spc="1" strike="noStrike">
              <a:ln w="2844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_PresentumNrSh"/>
              <a:ea typeface="a_PresentumNrSh"/>
            </a:endParaRPr>
          </a:p>
        </p:txBody>
      </p:sp>
      <p:sp>
        <p:nvSpPr>
          <p:cNvPr id="139" name=""/>
          <p:cNvSpPr txBox="1"/>
          <p:nvPr/>
        </p:nvSpPr>
        <p:spPr>
          <a:xfrm rot="20481600">
            <a:off x="1042920" y="3573360"/>
            <a:ext cx="65556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ра!</a:t>
            </a: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0" name="">
            <a:hlinkClick r:id="rId5" action="ppaction://hlinksldjump"/>
          </p:cNvPr>
          <p:cNvSpPr/>
          <p:nvPr/>
        </p:nvSpPr>
        <p:spPr>
          <a:xfrm>
            <a:off x="6443640" y="6308640"/>
            <a:ext cx="2411280" cy="433440"/>
          </a:xfrm>
          <a:prstGeom prst="bevel">
            <a:avLst>
              <a:gd name="adj" fmla="val 125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должить иг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250" autoRev="1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9" dur="250" autoRev="1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0" dur="250" autoRev="1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64 1.48148E-006 C -0.00973 -0.04421 -0.02292 -0.08796 -0.02466 -0.11505 C -0.02622 -0.1419 -0.01615 -0.15139 -0.00643 -0.16134 C 0.00312 -0.1713 0.01909 -0.16921 0.03385 -0.175 C 0.04878 -0.18079 0.07465 -0.19352 0.08246 -0.19676 E">
                                      <p:cBhvr>
                                        <p:cTn id="52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6000"/>
                            </p:stCondLst>
                            <p:childTnLst>
                              <p:par>
                                <p:cTn id="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4745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>
            <a:hlinkClick r:id="rId2" action="ppaction://hlinksldjump"/>
          </p:cNvPr>
          <p:cNvSpPr/>
          <p:nvPr/>
        </p:nvSpPr>
        <p:spPr>
          <a:xfrm>
            <a:off x="2411280" y="5373720"/>
            <a:ext cx="4032360" cy="1225440"/>
          </a:xfrm>
          <a:prstGeom prst="ellipse">
            <a:avLst/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5400000"/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) 56 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>
            <a:hlinkClick r:id="rId3" action="ppaction://hlinksldjump"/>
          </p:cNvPr>
          <p:cNvSpPr/>
          <p:nvPr/>
        </p:nvSpPr>
        <p:spPr>
          <a:xfrm>
            <a:off x="4788000" y="4221000"/>
            <a:ext cx="4032000" cy="1225800"/>
          </a:xfrm>
          <a:prstGeom prst="ellipse">
            <a:avLst/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5400000"/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) 22,4 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>
            <a:hlinkClick r:id="rId4" action="ppaction://hlinksldjump"/>
          </p:cNvPr>
          <p:cNvSpPr/>
          <p:nvPr/>
        </p:nvSpPr>
        <p:spPr>
          <a:xfrm>
            <a:off x="324000" y="4221000"/>
            <a:ext cx="4032000" cy="1225800"/>
          </a:xfrm>
          <a:prstGeom prst="ellipse">
            <a:avLst/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5400000"/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) 44,8 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68360" y="404640"/>
            <a:ext cx="12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ladimir Script"/>
              </a:rPr>
              <a:t>ИГРА</a:t>
            </a:r>
            <a:endParaRPr b="1" lang="en-US" sz="44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ladimir Script"/>
              <a:ea typeface="Vladimir Script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1979640" y="404640"/>
            <a:ext cx="1871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ХОЧУ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067280" y="333360"/>
            <a:ext cx="1368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СЁ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5724360" y="404640"/>
            <a:ext cx="2665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НАТЬ!"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7"/>
          <a:stretch/>
        </p:blipFill>
        <p:spPr>
          <a:xfrm>
            <a:off x="2124000" y="907920"/>
            <a:ext cx="6335640" cy="21744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 txBox="1"/>
          <p:nvPr/>
        </p:nvSpPr>
        <p:spPr>
          <a:xfrm>
            <a:off x="2700360" y="1341360"/>
            <a:ext cx="1152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Gautami"/>
              </a:rPr>
              <a:t>ТЕМА :</a:t>
            </a:r>
            <a:endParaRPr b="1" i="1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Gautami"/>
              <a:ea typeface="Gautami"/>
            </a:endParaRPr>
          </a:p>
        </p:txBody>
      </p:sp>
      <p:sp>
        <p:nvSpPr>
          <p:cNvPr id="437" name=""/>
          <p:cNvSpPr/>
          <p:nvPr/>
        </p:nvSpPr>
        <p:spPr>
          <a:xfrm>
            <a:off x="755640" y="981000"/>
            <a:ext cx="720720" cy="647640"/>
          </a:xfrm>
          <a:custGeom>
            <a:avLst/>
            <a:gdLst>
              <a:gd name="textAreaLeft" fmla="*/ 92160 w 720720"/>
              <a:gd name="textAreaRight" fmla="*/ 628560 w 720720"/>
              <a:gd name="textAreaTop" fmla="*/ 92160 h 647640"/>
              <a:gd name="textAreaBottom" fmla="*/ 5554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0961" y="3075"/>
                </a:lnTo>
                <a:lnTo>
                  <a:pt x="3075" y="3075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0961" y="18525"/>
                </a:lnTo>
                <a:lnTo>
                  <a:pt x="20961" y="3075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3075" y="18525"/>
                </a:lnTo>
                <a:lnTo>
                  <a:pt x="20961" y="18525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3075" y="3075"/>
                </a:lnTo>
                <a:lnTo>
                  <a:pt x="3075" y="18525"/>
                </a:lnTo>
                <a:close/>
              </a:path>
            </a:pathLst>
          </a:custGeom>
          <a:gradFill rotWithShape="0">
            <a:gsLst>
              <a:gs pos="0">
                <a:srgbClr val="97cd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H="1" rot="10800000">
            <a:off x="755640" y="1988640"/>
            <a:ext cx="7704000" cy="1871640"/>
          </a:xfrm>
          <a:prstGeom prst="wedgeEllipseCallout">
            <a:avLst>
              <a:gd name="adj1" fmla="val -40851"/>
              <a:gd name="adj2" fmla="val 67129"/>
            </a:avLst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16200000"/>
          </a:gradFill>
          <a:ln w="5724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Какой объём при н.у. занимаю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15 •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 Narrow"/>
              </a:rPr>
              <a:t>23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молекул кисло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>
            <a:hlinkClick r:id="rId8" action="ppaction://hlinksldjump"/>
          </p:cNvPr>
          <p:cNvSpPr/>
          <p:nvPr/>
        </p:nvSpPr>
        <p:spPr>
          <a:xfrm>
            <a:off x="6948360" y="6237360"/>
            <a:ext cx="1979640" cy="433440"/>
          </a:xfrm>
          <a:prstGeom prst="bevel">
            <a:avLst>
              <a:gd name="adj" fmla="val 125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должить иг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356000" y="126828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«Химические величин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0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5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385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9" dur="385" fill="hold"/>
                                        <p:tgtEl>
                                          <p:spTgt spid="4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1" dur="385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3" dur="385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1000"/>
                            </p:stCondLst>
                            <p:childTnLst>
                              <p:par>
                                <p:cTn id="98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5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5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>
            <a:hlinkClick r:id="rId2" action="ppaction://hlinksldjump"/>
          </p:cNvPr>
          <p:cNvSpPr/>
          <p:nvPr/>
        </p:nvSpPr>
        <p:spPr>
          <a:xfrm>
            <a:off x="2411280" y="5373720"/>
            <a:ext cx="4032360" cy="1225440"/>
          </a:xfrm>
          <a:prstGeom prst="ellipse">
            <a:avLst/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5400000"/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) 44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>
            <a:hlinkClick r:id="rId3" action="ppaction://hlinksldjump"/>
          </p:cNvPr>
          <p:cNvSpPr/>
          <p:nvPr/>
        </p:nvSpPr>
        <p:spPr>
          <a:xfrm>
            <a:off x="4788000" y="4221000"/>
            <a:ext cx="4032000" cy="1225800"/>
          </a:xfrm>
          <a:prstGeom prst="ellipse">
            <a:avLst/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5400000"/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) 1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>
            <a:hlinkClick r:id="rId4" action="ppaction://hlinksldjump"/>
          </p:cNvPr>
          <p:cNvSpPr/>
          <p:nvPr/>
        </p:nvSpPr>
        <p:spPr>
          <a:xfrm>
            <a:off x="324000" y="4221000"/>
            <a:ext cx="4032000" cy="1225800"/>
          </a:xfrm>
          <a:prstGeom prst="ellipse">
            <a:avLst/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5400000"/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468360" y="404640"/>
            <a:ext cx="12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ladimir Script"/>
              </a:rPr>
              <a:t>ИГРА</a:t>
            </a:r>
            <a:endParaRPr b="1" lang="en-US" sz="44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ladimir Script"/>
              <a:ea typeface="Vladimir Script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1979640" y="404640"/>
            <a:ext cx="1871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ХОЧУ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4067280" y="333360"/>
            <a:ext cx="1368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СЁ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5724360" y="404640"/>
            <a:ext cx="2665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НАТЬ!"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7"/>
          <a:stretch/>
        </p:blipFill>
        <p:spPr>
          <a:xfrm>
            <a:off x="2124000" y="907920"/>
            <a:ext cx="6335640" cy="21744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 txBox="1"/>
          <p:nvPr/>
        </p:nvSpPr>
        <p:spPr>
          <a:xfrm>
            <a:off x="2700360" y="1341360"/>
            <a:ext cx="1152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Gautami"/>
              </a:rPr>
              <a:t>ТЕМА :</a:t>
            </a:r>
            <a:endParaRPr b="1" i="1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Gautami"/>
              <a:ea typeface="Gautami"/>
            </a:endParaRPr>
          </a:p>
        </p:txBody>
      </p:sp>
      <p:sp>
        <p:nvSpPr>
          <p:cNvPr id="450" name=""/>
          <p:cNvSpPr/>
          <p:nvPr/>
        </p:nvSpPr>
        <p:spPr>
          <a:xfrm>
            <a:off x="755640" y="981000"/>
            <a:ext cx="720720" cy="647640"/>
          </a:xfrm>
          <a:custGeom>
            <a:avLst/>
            <a:gdLst>
              <a:gd name="textAreaLeft" fmla="*/ 92160 w 720720"/>
              <a:gd name="textAreaRight" fmla="*/ 628560 w 720720"/>
              <a:gd name="textAreaTop" fmla="*/ 92160 h 647640"/>
              <a:gd name="textAreaBottom" fmla="*/ 5554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0961" y="3075"/>
                </a:lnTo>
                <a:lnTo>
                  <a:pt x="3075" y="3075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0961" y="18525"/>
                </a:lnTo>
                <a:lnTo>
                  <a:pt x="20961" y="3075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3075" y="18525"/>
                </a:lnTo>
                <a:lnTo>
                  <a:pt x="20961" y="18525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3075" y="3075"/>
                </a:lnTo>
                <a:lnTo>
                  <a:pt x="3075" y="18525"/>
                </a:lnTo>
                <a:close/>
              </a:path>
            </a:pathLst>
          </a:custGeom>
          <a:gradFill rotWithShape="0">
            <a:gsLst>
              <a:gs pos="0">
                <a:srgbClr val="97cd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rot="10800000">
            <a:off x="249840" y="2276280"/>
            <a:ext cx="8569080" cy="1439640"/>
          </a:xfrm>
          <a:prstGeom prst="wedgeEllipseCallout">
            <a:avLst>
              <a:gd name="adj1" fmla="val -35865"/>
              <a:gd name="adj2" fmla="val 92555"/>
            </a:avLst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16200000"/>
          </a:gradFill>
          <a:ln w="5724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Массовая доля кислорода в оксиде фосфора (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V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) ра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>
            <a:hlinkClick r:id="rId8" action="ppaction://hlinksldjump"/>
          </p:cNvPr>
          <p:cNvSpPr/>
          <p:nvPr/>
        </p:nvSpPr>
        <p:spPr>
          <a:xfrm>
            <a:off x="6948360" y="6237360"/>
            <a:ext cx="1979640" cy="433440"/>
          </a:xfrm>
          <a:prstGeom prst="bevel">
            <a:avLst>
              <a:gd name="adj" fmla="val 125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должить иг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067280" y="112536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«Химические величин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fill="hold">
                      <p:stCondLst>
                        <p:cond delay="0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7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0" dur="385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1" dur="385" fill="hold"/>
                                        <p:tgtEl>
                                          <p:spTgt spid="4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3" dur="385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5" dur="385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5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>
            <a:hlinkClick r:id="rId2" action="ppaction://hlinksldjump"/>
          </p:cNvPr>
          <p:cNvSpPr/>
          <p:nvPr/>
        </p:nvSpPr>
        <p:spPr>
          <a:xfrm>
            <a:off x="2411280" y="5373720"/>
            <a:ext cx="4032360" cy="1225440"/>
          </a:xfrm>
          <a:prstGeom prst="ellipse">
            <a:avLst/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5400000"/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) 585 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>
            <a:hlinkClick r:id="rId3" action="ppaction://hlinksldjump"/>
          </p:cNvPr>
          <p:cNvSpPr/>
          <p:nvPr/>
        </p:nvSpPr>
        <p:spPr>
          <a:xfrm>
            <a:off x="4788000" y="4221000"/>
            <a:ext cx="4032000" cy="1225800"/>
          </a:xfrm>
          <a:prstGeom prst="ellipse">
            <a:avLst/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5400000"/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) 600 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>
            <a:hlinkClick r:id="rId4" action="ppaction://hlinksldjump"/>
          </p:cNvPr>
          <p:cNvSpPr/>
          <p:nvPr/>
        </p:nvSpPr>
        <p:spPr>
          <a:xfrm>
            <a:off x="324000" y="4221000"/>
            <a:ext cx="4032000" cy="1225800"/>
          </a:xfrm>
          <a:prstGeom prst="ellipse">
            <a:avLst/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5400000"/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) 570 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68360" y="404640"/>
            <a:ext cx="12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ladimir Script"/>
              </a:rPr>
              <a:t>ИГРА</a:t>
            </a:r>
            <a:endParaRPr b="1" lang="en-US" sz="44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ladimir Script"/>
              <a:ea typeface="Vladimir Script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1979640" y="404640"/>
            <a:ext cx="1871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ХОЧУ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067280" y="333360"/>
            <a:ext cx="1368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СЁ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5724360" y="404640"/>
            <a:ext cx="2665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НАТЬ!"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7"/>
          <a:stretch/>
        </p:blipFill>
        <p:spPr>
          <a:xfrm>
            <a:off x="2124000" y="907920"/>
            <a:ext cx="6335640" cy="21744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 txBox="1"/>
          <p:nvPr/>
        </p:nvSpPr>
        <p:spPr>
          <a:xfrm>
            <a:off x="2700360" y="1341360"/>
            <a:ext cx="1152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Gautami"/>
              </a:rPr>
              <a:t>ТЕМА :</a:t>
            </a:r>
            <a:endParaRPr b="1" i="1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Gautami"/>
              <a:ea typeface="Gautami"/>
            </a:endParaRPr>
          </a:p>
        </p:txBody>
      </p:sp>
      <p:sp>
        <p:nvSpPr>
          <p:cNvPr id="463" name=""/>
          <p:cNvSpPr/>
          <p:nvPr/>
        </p:nvSpPr>
        <p:spPr>
          <a:xfrm>
            <a:off x="755640" y="981000"/>
            <a:ext cx="720720" cy="647640"/>
          </a:xfrm>
          <a:custGeom>
            <a:avLst/>
            <a:gdLst>
              <a:gd name="textAreaLeft" fmla="*/ 92160 w 720720"/>
              <a:gd name="textAreaRight" fmla="*/ 628560 w 720720"/>
              <a:gd name="textAreaTop" fmla="*/ 92160 h 647640"/>
              <a:gd name="textAreaBottom" fmla="*/ 5554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0961" y="3075"/>
                </a:lnTo>
                <a:lnTo>
                  <a:pt x="3075" y="3075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0961" y="18525"/>
                </a:lnTo>
                <a:lnTo>
                  <a:pt x="20961" y="3075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3075" y="18525"/>
                </a:lnTo>
                <a:lnTo>
                  <a:pt x="20961" y="18525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3075" y="3075"/>
                </a:lnTo>
                <a:lnTo>
                  <a:pt x="3075" y="18525"/>
                </a:lnTo>
                <a:close/>
              </a:path>
            </a:pathLst>
          </a:custGeom>
          <a:gradFill rotWithShape="0">
            <a:gsLst>
              <a:gs pos="0">
                <a:srgbClr val="97cd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H="1" rot="10800000">
            <a:off x="249840" y="1989000"/>
            <a:ext cx="8569080" cy="2232000"/>
          </a:xfrm>
          <a:prstGeom prst="wedgeEllipseCallout">
            <a:avLst>
              <a:gd name="adj1" fmla="val -35828"/>
              <a:gd name="adj2" fmla="val 64504"/>
            </a:avLst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16200000"/>
          </a:gradFill>
          <a:ln w="5724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В магазин приходит Кол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«Взвесьте десять </a:t>
            </a:r>
            <a:r>
              <a:rPr b="1" i="1" lang="en-US" sz="2400" spc="-1" strike="noStrike">
                <a:solidFill>
                  <a:srgbClr val="333399"/>
                </a:solidFill>
                <a:latin typeface="Arial Narrow"/>
              </a:rPr>
              <a:t>молей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сол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Деньги сразу вам отдам 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Сколько это будет граммов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>
            <a:hlinkClick r:id="rId8" action="ppaction://hlinksldjump"/>
          </p:cNvPr>
          <p:cNvSpPr/>
          <p:nvPr/>
        </p:nvSpPr>
        <p:spPr>
          <a:xfrm>
            <a:off x="6948360" y="6237360"/>
            <a:ext cx="1979640" cy="433440"/>
          </a:xfrm>
          <a:prstGeom prst="bevel">
            <a:avLst>
              <a:gd name="adj" fmla="val 125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должить иг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500720" y="125892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«Химические величин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0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59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385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3" dur="385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6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5" dur="385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6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67" dur="385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6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9" dur="5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5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5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>
            <a:hlinkClick r:id="rId2" action="ppaction://hlinksldjump"/>
          </p:cNvPr>
          <p:cNvSpPr/>
          <p:nvPr/>
        </p:nvSpPr>
        <p:spPr>
          <a:xfrm>
            <a:off x="2411280" y="5373720"/>
            <a:ext cx="4032360" cy="1225440"/>
          </a:xfrm>
          <a:prstGeom prst="ellipse">
            <a:avLst/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5400000"/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) МеКисл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>
            <a:hlinkClick r:id="rId3" action="ppaction://hlinksldjump"/>
          </p:cNvPr>
          <p:cNvSpPr/>
          <p:nvPr/>
        </p:nvSpPr>
        <p:spPr>
          <a:xfrm>
            <a:off x="4788000" y="4221000"/>
            <a:ext cx="4032000" cy="1225800"/>
          </a:xfrm>
          <a:prstGeom prst="ellipse">
            <a:avLst/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5400000"/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 МеН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>
            <a:hlinkClick r:id="rId4" action="ppaction://hlinksldjump"/>
          </p:cNvPr>
          <p:cNvSpPr/>
          <p:nvPr/>
        </p:nvSpPr>
        <p:spPr>
          <a:xfrm>
            <a:off x="324000" y="4221000"/>
            <a:ext cx="4032000" cy="1225800"/>
          </a:xfrm>
          <a:prstGeom prst="ellipse">
            <a:avLst/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5400000"/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 МеОН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468360" y="404640"/>
            <a:ext cx="12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ladimir Script"/>
              </a:rPr>
              <a:t>ИГРА</a:t>
            </a:r>
            <a:endParaRPr b="1" lang="en-US" sz="44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ladimir Script"/>
              <a:ea typeface="Vladimir Script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1979640" y="404640"/>
            <a:ext cx="1871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ХОЧУ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067280" y="333360"/>
            <a:ext cx="1368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СЁ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5724360" y="404640"/>
            <a:ext cx="2665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НАТЬ!"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7"/>
          <a:stretch/>
        </p:blipFill>
        <p:spPr>
          <a:xfrm>
            <a:off x="2124000" y="907920"/>
            <a:ext cx="6335640" cy="21744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 txBox="1"/>
          <p:nvPr/>
        </p:nvSpPr>
        <p:spPr>
          <a:xfrm>
            <a:off x="2700360" y="1341360"/>
            <a:ext cx="1152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Gautami"/>
              </a:rPr>
              <a:t>ТЕМА :</a:t>
            </a:r>
            <a:endParaRPr b="1" i="1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Gautami"/>
              <a:ea typeface="Gautami"/>
            </a:endParaRPr>
          </a:p>
        </p:txBody>
      </p:sp>
      <p:sp>
        <p:nvSpPr>
          <p:cNvPr id="476" name=""/>
          <p:cNvSpPr/>
          <p:nvPr/>
        </p:nvSpPr>
        <p:spPr>
          <a:xfrm>
            <a:off x="755640" y="981000"/>
            <a:ext cx="720720" cy="647640"/>
          </a:xfrm>
          <a:custGeom>
            <a:avLst/>
            <a:gdLst>
              <a:gd name="textAreaLeft" fmla="*/ 92160 w 720720"/>
              <a:gd name="textAreaRight" fmla="*/ 628560 w 720720"/>
              <a:gd name="textAreaTop" fmla="*/ 92160 h 647640"/>
              <a:gd name="textAreaBottom" fmla="*/ 5554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0961" y="3075"/>
                </a:lnTo>
                <a:lnTo>
                  <a:pt x="3075" y="3075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0961" y="18525"/>
                </a:lnTo>
                <a:lnTo>
                  <a:pt x="20961" y="3075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3075" y="18525"/>
                </a:lnTo>
                <a:lnTo>
                  <a:pt x="20961" y="18525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3075" y="3075"/>
                </a:lnTo>
                <a:lnTo>
                  <a:pt x="3075" y="18525"/>
                </a:lnTo>
                <a:close/>
              </a:path>
            </a:pathLst>
          </a:custGeom>
          <a:gradFill rotWithShape="0">
            <a:gsLst>
              <a:gs pos="0">
                <a:srgbClr val="97cd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H="1" rot="10800000">
            <a:off x="1114920" y="2349360"/>
            <a:ext cx="7201080" cy="1440000"/>
          </a:xfrm>
          <a:prstGeom prst="wedgeEllipseCallout">
            <a:avLst>
              <a:gd name="adj1" fmla="val -45305"/>
              <a:gd name="adj2" fmla="val 97074"/>
            </a:avLst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16200000"/>
          </a:gradFill>
          <a:ln w="5724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Общую формулу соли можно запис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>
            <a:hlinkClick r:id="rId8" action="ppaction://hlinksldjump"/>
          </p:cNvPr>
          <p:cNvSpPr/>
          <p:nvPr/>
        </p:nvSpPr>
        <p:spPr>
          <a:xfrm>
            <a:off x="6948360" y="6237360"/>
            <a:ext cx="1979640" cy="433440"/>
          </a:xfrm>
          <a:prstGeom prst="bevel">
            <a:avLst>
              <a:gd name="adj" fmla="val 125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Продолжить иг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211640" y="1052640"/>
            <a:ext cx="46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«Сол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fill="hold">
                      <p:stCondLst>
                        <p:cond delay="0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01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4" dur="385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5" dur="385" fill="hold"/>
                                        <p:tgtEl>
                                          <p:spTgt spid="4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7" dur="385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9" dur="385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" dur="5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5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5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>
            <a:hlinkClick r:id="rId2" action="ppaction://hlinksldjump"/>
          </p:cNvPr>
          <p:cNvSpPr/>
          <p:nvPr/>
        </p:nvSpPr>
        <p:spPr>
          <a:xfrm>
            <a:off x="2484360" y="5516640"/>
            <a:ext cx="4032360" cy="1082520"/>
          </a:xfrm>
          <a:prstGeom prst="ellipse">
            <a:avLst/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5400000"/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>
            <a:hlinkClick r:id="rId3" action="ppaction://hlinksldjump"/>
          </p:cNvPr>
          <p:cNvSpPr/>
          <p:nvPr/>
        </p:nvSpPr>
        <p:spPr>
          <a:xfrm>
            <a:off x="4716360" y="4581360"/>
            <a:ext cx="4032360" cy="1009800"/>
          </a:xfrm>
          <a:prstGeom prst="ellipse">
            <a:avLst/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5400000"/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Si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>
            <a:hlinkClick r:id="rId4" action="ppaction://hlinksldjump"/>
          </p:cNvPr>
          <p:cNvSpPr/>
          <p:nvPr/>
        </p:nvSpPr>
        <p:spPr>
          <a:xfrm>
            <a:off x="250920" y="4508640"/>
            <a:ext cx="4032000" cy="1082520"/>
          </a:xfrm>
          <a:prstGeom prst="ellipse">
            <a:avLst/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5400000"/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)СаСО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468360" y="404640"/>
            <a:ext cx="12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ladimir Script"/>
              </a:rPr>
              <a:t>ИГРА</a:t>
            </a:r>
            <a:endParaRPr b="1" lang="en-US" sz="44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ladimir Script"/>
              <a:ea typeface="Vladimir Script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1979640" y="404640"/>
            <a:ext cx="1871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ХОЧУ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067280" y="333360"/>
            <a:ext cx="1368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СЁ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5724360" y="404640"/>
            <a:ext cx="2665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НАТЬ!"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7"/>
          <a:stretch/>
        </p:blipFill>
        <p:spPr>
          <a:xfrm>
            <a:off x="2124000" y="907920"/>
            <a:ext cx="6335640" cy="217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 txBox="1"/>
          <p:nvPr/>
        </p:nvSpPr>
        <p:spPr>
          <a:xfrm>
            <a:off x="2700360" y="1341360"/>
            <a:ext cx="1152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Gautami"/>
              </a:rPr>
              <a:t>ТЕМА :</a:t>
            </a:r>
            <a:endParaRPr b="1" i="1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Gautami"/>
              <a:ea typeface="Gautami"/>
            </a:endParaRPr>
          </a:p>
        </p:txBody>
      </p:sp>
      <p:sp>
        <p:nvSpPr>
          <p:cNvPr id="489" name=""/>
          <p:cNvSpPr/>
          <p:nvPr/>
        </p:nvSpPr>
        <p:spPr>
          <a:xfrm>
            <a:off x="755640" y="981000"/>
            <a:ext cx="720720" cy="647640"/>
          </a:xfrm>
          <a:custGeom>
            <a:avLst/>
            <a:gdLst>
              <a:gd name="textAreaLeft" fmla="*/ 92160 w 720720"/>
              <a:gd name="textAreaRight" fmla="*/ 628560 w 720720"/>
              <a:gd name="textAreaTop" fmla="*/ 92160 h 647640"/>
              <a:gd name="textAreaBottom" fmla="*/ 5554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0961" y="3075"/>
                </a:lnTo>
                <a:lnTo>
                  <a:pt x="3075" y="3075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0961" y="18525"/>
                </a:lnTo>
                <a:lnTo>
                  <a:pt x="20961" y="3075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3075" y="18525"/>
                </a:lnTo>
                <a:lnTo>
                  <a:pt x="20961" y="18525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3075" y="3075"/>
                </a:lnTo>
                <a:lnTo>
                  <a:pt x="3075" y="18525"/>
                </a:lnTo>
                <a:close/>
              </a:path>
            </a:pathLst>
          </a:custGeom>
          <a:gradFill rotWithShape="0">
            <a:gsLst>
              <a:gs pos="0">
                <a:srgbClr val="97cd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H="1" rot="10800000">
            <a:off x="249840" y="1628640"/>
            <a:ext cx="8569080" cy="2952720"/>
          </a:xfrm>
          <a:prstGeom prst="wedgeEllipseCallout">
            <a:avLst>
              <a:gd name="adj1" fmla="val -35902"/>
              <a:gd name="adj2" fmla="val 48708"/>
            </a:avLst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16200000"/>
          </a:gradFill>
          <a:ln w="5724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Эта соль используется для отделки станций метро, а также в повседневной работе школ. Эту соль применяют, чтобы получить строительный цемент. О каком веществе идёт реч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>
            <a:hlinkClick r:id="rId8" action="ppaction://hlinksldjump"/>
          </p:cNvPr>
          <p:cNvSpPr/>
          <p:nvPr/>
        </p:nvSpPr>
        <p:spPr>
          <a:xfrm>
            <a:off x="6948360" y="6237360"/>
            <a:ext cx="1979640" cy="433440"/>
          </a:xfrm>
          <a:prstGeom prst="bevel">
            <a:avLst>
              <a:gd name="adj" fmla="val 125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Продолжить иг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211640" y="981000"/>
            <a:ext cx="354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«Соли»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7" dur="indefinite" restart="never" nodeType="tmRoot">
          <p:childTnLst>
            <p:seq>
              <p:cTn id="1138" dur="indefinite" nodeType="mainSeq">
                <p:childTnLst>
                  <p:par>
                    <p:cTn id="1139" fill="hold">
                      <p:stCondLst>
                        <p:cond delay="0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4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385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7" dur="385" fill="hold"/>
                                        <p:tgtEl>
                                          <p:spTgt spid="4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9" dur="385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1" dur="385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5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0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3" dur="5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9" dur="5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5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>
            <a:hlinkClick r:id="rId2" action="ppaction://hlinksldjump"/>
          </p:cNvPr>
          <p:cNvSpPr/>
          <p:nvPr/>
        </p:nvSpPr>
        <p:spPr>
          <a:xfrm>
            <a:off x="2411280" y="5373720"/>
            <a:ext cx="4032360" cy="1225440"/>
          </a:xfrm>
          <a:prstGeom prst="ellipse">
            <a:avLst/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5400000"/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P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>
            <a:hlinkClick r:id="rId3" action="ppaction://hlinksldjump"/>
          </p:cNvPr>
          <p:cNvSpPr/>
          <p:nvPr/>
        </p:nvSpPr>
        <p:spPr>
          <a:xfrm>
            <a:off x="4788000" y="4221000"/>
            <a:ext cx="4032000" cy="1225800"/>
          </a:xfrm>
          <a:prstGeom prst="ellipse">
            <a:avLst/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5400000"/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P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>
            <a:hlinkClick r:id="rId4" action="ppaction://hlinksldjump"/>
          </p:cNvPr>
          <p:cNvSpPr/>
          <p:nvPr/>
        </p:nvSpPr>
        <p:spPr>
          <a:xfrm>
            <a:off x="324000" y="4221000"/>
            <a:ext cx="4032000" cy="1225800"/>
          </a:xfrm>
          <a:prstGeom prst="ellipse">
            <a:avLst/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5400000"/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P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68360" y="404640"/>
            <a:ext cx="12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ladimir Script"/>
              </a:rPr>
              <a:t>ИГРА</a:t>
            </a:r>
            <a:endParaRPr b="1" lang="en-US" sz="44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ladimir Script"/>
              <a:ea typeface="Vladimir Script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1979640" y="404640"/>
            <a:ext cx="1871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ХОЧУ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4067280" y="333360"/>
            <a:ext cx="1368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СЁ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5724360" y="404640"/>
            <a:ext cx="2665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НАТЬ!"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7"/>
          <a:stretch/>
        </p:blipFill>
        <p:spPr>
          <a:xfrm>
            <a:off x="2124000" y="907920"/>
            <a:ext cx="6335640" cy="217440"/>
          </a:xfrm>
          <a:prstGeom prst="rect">
            <a:avLst/>
          </a:prstGeom>
          <a:ln w="0">
            <a:noFill/>
          </a:ln>
        </p:spPr>
      </p:pic>
      <p:sp>
        <p:nvSpPr>
          <p:cNvPr id="501" name=""/>
          <p:cNvSpPr txBox="1"/>
          <p:nvPr/>
        </p:nvSpPr>
        <p:spPr>
          <a:xfrm>
            <a:off x="2700360" y="1341360"/>
            <a:ext cx="1152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Gautami"/>
              </a:rPr>
              <a:t>ТЕМА :</a:t>
            </a:r>
            <a:endParaRPr b="1" i="1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Gautami"/>
              <a:ea typeface="Gautami"/>
            </a:endParaRPr>
          </a:p>
        </p:txBody>
      </p:sp>
      <p:sp>
        <p:nvSpPr>
          <p:cNvPr id="502" name=""/>
          <p:cNvSpPr/>
          <p:nvPr/>
        </p:nvSpPr>
        <p:spPr>
          <a:xfrm>
            <a:off x="755640" y="981000"/>
            <a:ext cx="720720" cy="647640"/>
          </a:xfrm>
          <a:custGeom>
            <a:avLst/>
            <a:gdLst>
              <a:gd name="textAreaLeft" fmla="*/ 92160 w 720720"/>
              <a:gd name="textAreaRight" fmla="*/ 628560 w 720720"/>
              <a:gd name="textAreaTop" fmla="*/ 92160 h 647640"/>
              <a:gd name="textAreaBottom" fmla="*/ 5554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0961" y="3075"/>
                </a:lnTo>
                <a:lnTo>
                  <a:pt x="3075" y="3075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0961" y="18525"/>
                </a:lnTo>
                <a:lnTo>
                  <a:pt x="20961" y="3075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3075" y="18525"/>
                </a:lnTo>
                <a:lnTo>
                  <a:pt x="20961" y="18525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3075" y="3075"/>
                </a:lnTo>
                <a:lnTo>
                  <a:pt x="3075" y="18525"/>
                </a:lnTo>
                <a:close/>
              </a:path>
            </a:pathLst>
          </a:custGeom>
          <a:gradFill rotWithShape="0">
            <a:gsLst>
              <a:gs pos="0">
                <a:srgbClr val="97cd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H="1" rot="10800000">
            <a:off x="971640" y="2276280"/>
            <a:ext cx="7129440" cy="1368360"/>
          </a:xfrm>
          <a:prstGeom prst="wedgeEllipseCallout">
            <a:avLst>
              <a:gd name="adj1" fmla="val -43212"/>
              <a:gd name="adj2" fmla="val 94662"/>
            </a:avLst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16200000"/>
          </a:gradFill>
          <a:ln w="5724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Ортофосфат хрома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III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) имеет формул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>
            <a:hlinkClick r:id="rId8" action="ppaction://hlinksldjump"/>
          </p:cNvPr>
          <p:cNvSpPr/>
          <p:nvPr/>
        </p:nvSpPr>
        <p:spPr>
          <a:xfrm>
            <a:off x="6948360" y="6237360"/>
            <a:ext cx="1979640" cy="433440"/>
          </a:xfrm>
          <a:prstGeom prst="bevel">
            <a:avLst>
              <a:gd name="adj" fmla="val 125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Продолжить иг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924360" y="1125360"/>
            <a:ext cx="37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«Соли»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9" dur="indefinite" restart="never" nodeType="tmRoot">
          <p:childTnLst>
            <p:seq>
              <p:cTn id="1180" dur="indefinite" nodeType="mainSeq">
                <p:childTnLst>
                  <p:par>
                    <p:cTn id="1181" fill="hold">
                      <p:stCondLst>
                        <p:cond delay="0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8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8" dur="385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9" dur="385" fill="hold"/>
                                        <p:tgtEl>
                                          <p:spTgt spid="5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9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1" dur="385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3" dur="385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9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5" dur="5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5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5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5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5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>
            <a:hlinkClick r:id="rId2" action="ppaction://hlinksldjump"/>
          </p:cNvPr>
          <p:cNvSpPr/>
          <p:nvPr/>
        </p:nvSpPr>
        <p:spPr>
          <a:xfrm>
            <a:off x="2411280" y="5373720"/>
            <a:ext cx="4032360" cy="1225440"/>
          </a:xfrm>
          <a:prstGeom prst="ellipse">
            <a:avLst/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5400000"/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>
            <a:hlinkClick r:id="rId3" action="ppaction://hlinksldjump"/>
          </p:cNvPr>
          <p:cNvSpPr/>
          <p:nvPr/>
        </p:nvSpPr>
        <p:spPr>
          <a:xfrm>
            <a:off x="4788000" y="4221000"/>
            <a:ext cx="4032000" cy="1225800"/>
          </a:xfrm>
          <a:prstGeom prst="ellipse">
            <a:avLst/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5400000"/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 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>
            <a:hlinkClick r:id="rId4" action="ppaction://hlinksldjump"/>
          </p:cNvPr>
          <p:cNvSpPr/>
          <p:nvPr/>
        </p:nvSpPr>
        <p:spPr>
          <a:xfrm>
            <a:off x="324000" y="4221000"/>
            <a:ext cx="4032000" cy="1225800"/>
          </a:xfrm>
          <a:prstGeom prst="ellipse">
            <a:avLst/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5400000"/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68360" y="404640"/>
            <a:ext cx="12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ladimir Script"/>
              </a:rPr>
              <a:t>ИГРА</a:t>
            </a:r>
            <a:endParaRPr b="1" lang="en-US" sz="44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ladimir Script"/>
              <a:ea typeface="Vladimir Script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1979640" y="404640"/>
            <a:ext cx="1871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ХОЧУ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4067280" y="333360"/>
            <a:ext cx="1368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СЁ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5724360" y="404640"/>
            <a:ext cx="2665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НАТЬ!"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7"/>
          <a:stretch/>
        </p:blipFill>
        <p:spPr>
          <a:xfrm>
            <a:off x="2124000" y="907920"/>
            <a:ext cx="6335640" cy="21744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 txBox="1"/>
          <p:nvPr/>
        </p:nvSpPr>
        <p:spPr>
          <a:xfrm>
            <a:off x="2700360" y="1341360"/>
            <a:ext cx="1152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Gautami"/>
              </a:rPr>
              <a:t>ТЕМА :</a:t>
            </a:r>
            <a:endParaRPr b="1" i="1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Gautami"/>
              <a:ea typeface="Gautami"/>
            </a:endParaRPr>
          </a:p>
        </p:txBody>
      </p:sp>
      <p:sp>
        <p:nvSpPr>
          <p:cNvPr id="515" name=""/>
          <p:cNvSpPr/>
          <p:nvPr/>
        </p:nvSpPr>
        <p:spPr>
          <a:xfrm>
            <a:off x="755640" y="981000"/>
            <a:ext cx="720720" cy="647640"/>
          </a:xfrm>
          <a:custGeom>
            <a:avLst/>
            <a:gdLst>
              <a:gd name="textAreaLeft" fmla="*/ 92160 w 720720"/>
              <a:gd name="textAreaRight" fmla="*/ 628560 w 720720"/>
              <a:gd name="textAreaTop" fmla="*/ 92160 h 647640"/>
              <a:gd name="textAreaBottom" fmla="*/ 5554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0961" y="3075"/>
                </a:lnTo>
                <a:lnTo>
                  <a:pt x="3075" y="3075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0961" y="18525"/>
                </a:lnTo>
                <a:lnTo>
                  <a:pt x="20961" y="3075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3075" y="18525"/>
                </a:lnTo>
                <a:lnTo>
                  <a:pt x="20961" y="18525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3075" y="3075"/>
                </a:lnTo>
                <a:lnTo>
                  <a:pt x="3075" y="18525"/>
                </a:lnTo>
                <a:close/>
              </a:path>
            </a:pathLst>
          </a:custGeom>
          <a:gradFill rotWithShape="0">
            <a:gsLst>
              <a:gs pos="0">
                <a:srgbClr val="97cd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H="1" rot="10800000">
            <a:off x="249840" y="1989000"/>
            <a:ext cx="8569080" cy="2232000"/>
          </a:xfrm>
          <a:prstGeom prst="wedgeEllipseCallout">
            <a:avLst>
              <a:gd name="adj1" fmla="val -35828"/>
              <a:gd name="adj2" fmla="val 64504"/>
            </a:avLst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16200000"/>
          </a:gradFill>
          <a:ln w="5724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 огне я воду испаряю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 воде я камнем застываю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рачу и скульптору я брат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Но чей, скажите, я сульфат?</a:t>
            </a:r>
            <a:br>
              <a:rPr sz="2400"/>
            </a:b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>
            <a:hlinkClick r:id="rId8" action="ppaction://hlinksldjump"/>
          </p:cNvPr>
          <p:cNvSpPr/>
          <p:nvPr/>
        </p:nvSpPr>
        <p:spPr>
          <a:xfrm>
            <a:off x="6948360" y="6237360"/>
            <a:ext cx="1979640" cy="433440"/>
          </a:xfrm>
          <a:prstGeom prst="bevel">
            <a:avLst>
              <a:gd name="adj" fmla="val 125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Продолжить иг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003640" y="1052640"/>
            <a:ext cx="29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«Соли»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1" dur="indefinite" restart="never" nodeType="tmRoot">
          <p:childTnLst>
            <p:seq>
              <p:cTn id="1222" dur="indefinite" nodeType="mainSeq">
                <p:childTnLst>
                  <p:par>
                    <p:cTn id="1223" fill="hold">
                      <p:stCondLst>
                        <p:cond delay="0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27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0" dur="385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1" dur="385" fill="hold"/>
                                        <p:tgtEl>
                                          <p:spTgt spid="5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3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33" dur="385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3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35" dur="385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3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7" dur="5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5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5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9" dur="5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5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5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>
            <a:hlinkClick r:id="rId2" action="ppaction://hlinksldjump"/>
          </p:cNvPr>
          <p:cNvSpPr/>
          <p:nvPr/>
        </p:nvSpPr>
        <p:spPr>
          <a:xfrm>
            <a:off x="2411280" y="5373720"/>
            <a:ext cx="4032360" cy="1225440"/>
          </a:xfrm>
          <a:prstGeom prst="ellipse">
            <a:avLst/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5400000"/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Si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>
            <a:hlinkClick r:id="rId3" action="ppaction://hlinksldjump"/>
          </p:cNvPr>
          <p:cNvSpPr/>
          <p:nvPr/>
        </p:nvSpPr>
        <p:spPr>
          <a:xfrm>
            <a:off x="4788000" y="4221000"/>
            <a:ext cx="4032000" cy="1225800"/>
          </a:xfrm>
          <a:prstGeom prst="ellipse">
            <a:avLst/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5400000"/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>
            <a:hlinkClick r:id="rId4" action="ppaction://hlinksldjump"/>
          </p:cNvPr>
          <p:cNvSpPr/>
          <p:nvPr/>
        </p:nvSpPr>
        <p:spPr>
          <a:xfrm>
            <a:off x="324000" y="4221000"/>
            <a:ext cx="4032000" cy="1225800"/>
          </a:xfrm>
          <a:prstGeom prst="ellipse">
            <a:avLst/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5400000"/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Si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68360" y="404640"/>
            <a:ext cx="12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ladimir Script"/>
              </a:rPr>
              <a:t>ИГРА</a:t>
            </a:r>
            <a:endParaRPr b="1" lang="en-US" sz="44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ladimir Script"/>
              <a:ea typeface="Vladimir Script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1979640" y="404640"/>
            <a:ext cx="1871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ХОЧУ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067280" y="333360"/>
            <a:ext cx="1368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СЁ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5724360" y="404640"/>
            <a:ext cx="2665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НАТЬ!"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7"/>
          <a:stretch/>
        </p:blipFill>
        <p:spPr>
          <a:xfrm>
            <a:off x="2124000" y="907920"/>
            <a:ext cx="6335640" cy="21744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 txBox="1"/>
          <p:nvPr/>
        </p:nvSpPr>
        <p:spPr>
          <a:xfrm>
            <a:off x="2700360" y="1341360"/>
            <a:ext cx="1152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Gautami"/>
              </a:rPr>
              <a:t>ТЕМА :</a:t>
            </a:r>
            <a:endParaRPr b="1" i="1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Gautami"/>
              <a:ea typeface="Gautami"/>
            </a:endParaRPr>
          </a:p>
        </p:txBody>
      </p:sp>
      <p:sp>
        <p:nvSpPr>
          <p:cNvPr id="528" name=""/>
          <p:cNvSpPr/>
          <p:nvPr/>
        </p:nvSpPr>
        <p:spPr>
          <a:xfrm>
            <a:off x="755640" y="981000"/>
            <a:ext cx="720720" cy="647640"/>
          </a:xfrm>
          <a:custGeom>
            <a:avLst/>
            <a:gdLst>
              <a:gd name="textAreaLeft" fmla="*/ 92160 w 720720"/>
              <a:gd name="textAreaRight" fmla="*/ 628560 w 720720"/>
              <a:gd name="textAreaTop" fmla="*/ 92160 h 647640"/>
              <a:gd name="textAreaBottom" fmla="*/ 5554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0961" y="3075"/>
                </a:lnTo>
                <a:lnTo>
                  <a:pt x="3075" y="3075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0961" y="18525"/>
                </a:lnTo>
                <a:lnTo>
                  <a:pt x="20961" y="3075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3075" y="18525"/>
                </a:lnTo>
                <a:lnTo>
                  <a:pt x="20961" y="18525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3075" y="3075"/>
                </a:lnTo>
                <a:lnTo>
                  <a:pt x="3075" y="18525"/>
                </a:lnTo>
                <a:close/>
              </a:path>
            </a:pathLst>
          </a:custGeom>
          <a:gradFill rotWithShape="0">
            <a:gsLst>
              <a:gs pos="0">
                <a:srgbClr val="97cd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H="1" rot="10800000">
            <a:off x="1041840" y="1773000"/>
            <a:ext cx="6769080" cy="2447640"/>
          </a:xfrm>
          <a:prstGeom prst="wedgeEllipseCallout">
            <a:avLst>
              <a:gd name="adj1" fmla="val -43833"/>
              <a:gd name="adj2" fmla="val 54407"/>
            </a:avLst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16200000"/>
          </a:gradFill>
          <a:ln w="5724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Заданным металлу и кисло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Ca; H</a:t>
            </a:r>
            <a:r>
              <a:rPr b="1" lang="en-US" sz="2400" spc="-1" strike="noStrike" baseline="-25000">
                <a:solidFill>
                  <a:srgbClr val="000099"/>
                </a:solidFill>
                <a:latin typeface="Arial Narrow"/>
              </a:rPr>
              <a:t>4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SiO</a:t>
            </a:r>
            <a:r>
              <a:rPr b="1" lang="en-US" sz="2400" spc="-1" strike="noStrike" baseline="-25000">
                <a:solidFill>
                  <a:srgbClr val="000099"/>
                </a:solidFill>
                <a:latin typeface="Arial Narrow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соответствует с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948360" y="6237360"/>
            <a:ext cx="1979640" cy="433440"/>
          </a:xfrm>
          <a:prstGeom prst="bevel">
            <a:avLst>
              <a:gd name="adj" fmla="val 125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Продолжить иг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148360" y="112536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«Соли»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3" dur="indefinite" restart="never" nodeType="tmRoot">
          <p:childTnLst>
            <p:seq>
              <p:cTn id="1264" dur="indefinite" nodeType="mainSeq">
                <p:childTnLst>
                  <p:par>
                    <p:cTn id="1265" fill="hold">
                      <p:stCondLst>
                        <p:cond delay="0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69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2" dur="385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3" dur="385" fill="hold"/>
                                        <p:tgtEl>
                                          <p:spTgt spid="5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75" dur="385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7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77" dur="385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7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9" dur="5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5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5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5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1" dur="5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5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5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>
            <a:hlinkClick r:id="rId2" action="ppaction://hlinksldjump"/>
          </p:cNvPr>
          <p:cNvSpPr/>
          <p:nvPr/>
        </p:nvSpPr>
        <p:spPr>
          <a:xfrm>
            <a:off x="2411280" y="5373720"/>
            <a:ext cx="4032360" cy="1225440"/>
          </a:xfrm>
          <a:prstGeom prst="ellipse">
            <a:avLst/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5400000"/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>
            <a:hlinkClick r:id="rId3" action="ppaction://hlinksldjump"/>
          </p:cNvPr>
          <p:cNvSpPr/>
          <p:nvPr/>
        </p:nvSpPr>
        <p:spPr>
          <a:xfrm>
            <a:off x="4788000" y="4221000"/>
            <a:ext cx="4032000" cy="1225800"/>
          </a:xfrm>
          <a:prstGeom prst="ellipse">
            <a:avLst/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5400000"/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>
            <a:hlinkClick r:id="rId4" action="ppaction://hlinksldjump"/>
          </p:cNvPr>
          <p:cNvSpPr/>
          <p:nvPr/>
        </p:nvSpPr>
        <p:spPr>
          <a:xfrm>
            <a:off x="324000" y="4221000"/>
            <a:ext cx="4032000" cy="1225800"/>
          </a:xfrm>
          <a:prstGeom prst="ellipse">
            <a:avLst/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5400000"/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68360" y="404640"/>
            <a:ext cx="12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ladimir Script"/>
              </a:rPr>
              <a:t>ИГРА</a:t>
            </a:r>
            <a:endParaRPr b="1" lang="en-US" sz="44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ladimir Script"/>
              <a:ea typeface="Vladimir Script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1979640" y="404640"/>
            <a:ext cx="1871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ХОЧУ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067280" y="333360"/>
            <a:ext cx="1368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СЁ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5724360" y="404640"/>
            <a:ext cx="2665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НАТЬ!"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7"/>
          <a:stretch/>
        </p:blipFill>
        <p:spPr>
          <a:xfrm>
            <a:off x="2124000" y="907920"/>
            <a:ext cx="6335640" cy="21744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 txBox="1"/>
          <p:nvPr/>
        </p:nvSpPr>
        <p:spPr>
          <a:xfrm>
            <a:off x="2700360" y="1341360"/>
            <a:ext cx="1152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Gautami"/>
              </a:rPr>
              <a:t>ТЕМА :</a:t>
            </a:r>
            <a:endParaRPr b="1" i="1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Gautami"/>
              <a:ea typeface="Gautami"/>
            </a:endParaRPr>
          </a:p>
        </p:txBody>
      </p:sp>
      <p:sp>
        <p:nvSpPr>
          <p:cNvPr id="541" name=""/>
          <p:cNvSpPr/>
          <p:nvPr/>
        </p:nvSpPr>
        <p:spPr>
          <a:xfrm>
            <a:off x="755640" y="981000"/>
            <a:ext cx="720720" cy="647640"/>
          </a:xfrm>
          <a:custGeom>
            <a:avLst/>
            <a:gdLst>
              <a:gd name="textAreaLeft" fmla="*/ 92160 w 720720"/>
              <a:gd name="textAreaRight" fmla="*/ 628560 w 720720"/>
              <a:gd name="textAreaTop" fmla="*/ 92160 h 647640"/>
              <a:gd name="textAreaBottom" fmla="*/ 5554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0961" y="3075"/>
                </a:lnTo>
                <a:lnTo>
                  <a:pt x="3075" y="3075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0961" y="18525"/>
                </a:lnTo>
                <a:lnTo>
                  <a:pt x="20961" y="3075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3075" y="18525"/>
                </a:lnTo>
                <a:lnTo>
                  <a:pt x="20961" y="18525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3075" y="3075"/>
                </a:lnTo>
                <a:lnTo>
                  <a:pt x="3075" y="18525"/>
                </a:lnTo>
                <a:close/>
              </a:path>
            </a:pathLst>
          </a:custGeom>
          <a:gradFill rotWithShape="0">
            <a:gsLst>
              <a:gs pos="0">
                <a:srgbClr val="97cd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H="1" rot="10800000">
            <a:off x="249840" y="1989000"/>
            <a:ext cx="8569080" cy="2232000"/>
          </a:xfrm>
          <a:prstGeom prst="wedgeEllipseCallout">
            <a:avLst>
              <a:gd name="adj1" fmla="val -35828"/>
              <a:gd name="adj2" fmla="val 64504"/>
            </a:avLst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16200000"/>
          </a:gradFill>
          <a:ln w="5724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Фосфат кальция- это основа минералов фосфоритов и апатитов,  из них производят фосфорные удобрения. Общее число атомов элементов в этом веществе рав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948360" y="6237360"/>
            <a:ext cx="1979640" cy="433440"/>
          </a:xfrm>
          <a:prstGeom prst="bevel">
            <a:avLst>
              <a:gd name="adj" fmla="val 125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Продолжить иг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148360" y="981000"/>
            <a:ext cx="26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«Соли»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5" dur="indefinite" restart="never" nodeType="tmRoot">
          <p:childTnLst>
            <p:seq>
              <p:cTn id="1306" dur="indefinite" nodeType="mainSeq">
                <p:childTnLst>
                  <p:par>
                    <p:cTn id="1307" fill="hold">
                      <p:stCondLst>
                        <p:cond delay="0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11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4" dur="385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5" dur="385" fill="hold"/>
                                        <p:tgtEl>
                                          <p:spTgt spid="5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1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17" dur="385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1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19" dur="385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2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1" dur="5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5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5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7" dur="5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5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5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5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3" dur="5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5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5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5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>
            <a:hlinkClick r:id="rId2" action="ppaction://hlinksldjump"/>
          </p:cNvPr>
          <p:cNvSpPr/>
          <p:nvPr/>
        </p:nvSpPr>
        <p:spPr>
          <a:xfrm>
            <a:off x="2411280" y="5373720"/>
            <a:ext cx="4032360" cy="1225440"/>
          </a:xfrm>
          <a:prstGeom prst="ellipse">
            <a:avLst/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5400000"/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-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>
            <a:hlinkClick r:id="rId3" action="ppaction://hlinksldjump"/>
          </p:cNvPr>
          <p:cNvSpPr/>
          <p:nvPr/>
        </p:nvSpPr>
        <p:spPr>
          <a:xfrm>
            <a:off x="4788000" y="4221000"/>
            <a:ext cx="4032000" cy="1225800"/>
          </a:xfrm>
          <a:prstGeom prst="ellipse">
            <a:avLst/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5400000"/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O</a:t>
            </a:r>
            <a:r>
              <a:rPr b="1" lang="ru-RU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>
            <a:hlinkClick r:id="rId4" action="ppaction://hlinksldjump"/>
          </p:cNvPr>
          <p:cNvSpPr/>
          <p:nvPr/>
        </p:nvSpPr>
        <p:spPr>
          <a:xfrm>
            <a:off x="324000" y="4221000"/>
            <a:ext cx="4032000" cy="1225800"/>
          </a:xfrm>
          <a:prstGeom prst="ellipse">
            <a:avLst/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5400000"/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Н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468360" y="404640"/>
            <a:ext cx="12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ladimir Script"/>
              </a:rPr>
              <a:t>ИГРА</a:t>
            </a:r>
            <a:endParaRPr b="1" lang="en-US" sz="44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ladimir Script"/>
              <a:ea typeface="Vladimir Script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1979640" y="404640"/>
            <a:ext cx="1871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ХОЧУ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067280" y="333360"/>
            <a:ext cx="1368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СЁ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5724360" y="404640"/>
            <a:ext cx="2665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НАТЬ!"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7"/>
          <a:stretch/>
        </p:blipFill>
        <p:spPr>
          <a:xfrm>
            <a:off x="2124000" y="907920"/>
            <a:ext cx="6335640" cy="21744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 txBox="1"/>
          <p:nvPr/>
        </p:nvSpPr>
        <p:spPr>
          <a:xfrm>
            <a:off x="2700360" y="1341360"/>
            <a:ext cx="1152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Gautami"/>
              </a:rPr>
              <a:t>ТЕМА :</a:t>
            </a:r>
            <a:endParaRPr b="1" i="1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Gautami"/>
              <a:ea typeface="Gautami"/>
            </a:endParaRPr>
          </a:p>
        </p:txBody>
      </p:sp>
      <p:sp>
        <p:nvSpPr>
          <p:cNvPr id="554" name=""/>
          <p:cNvSpPr/>
          <p:nvPr/>
        </p:nvSpPr>
        <p:spPr>
          <a:xfrm>
            <a:off x="755640" y="981000"/>
            <a:ext cx="720720" cy="647640"/>
          </a:xfrm>
          <a:custGeom>
            <a:avLst/>
            <a:gdLst>
              <a:gd name="textAreaLeft" fmla="*/ 92160 w 720720"/>
              <a:gd name="textAreaRight" fmla="*/ 628560 w 720720"/>
              <a:gd name="textAreaTop" fmla="*/ 92160 h 647640"/>
              <a:gd name="textAreaBottom" fmla="*/ 5554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0961" y="3075"/>
                </a:lnTo>
                <a:lnTo>
                  <a:pt x="3075" y="3075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0961" y="18525"/>
                </a:lnTo>
                <a:lnTo>
                  <a:pt x="20961" y="3075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3075" y="18525"/>
                </a:lnTo>
                <a:lnTo>
                  <a:pt x="20961" y="18525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3075" y="3075"/>
                </a:lnTo>
                <a:lnTo>
                  <a:pt x="3075" y="18525"/>
                </a:lnTo>
                <a:close/>
              </a:path>
            </a:pathLst>
          </a:custGeom>
          <a:gradFill rotWithShape="0">
            <a:gsLst>
              <a:gs pos="0">
                <a:srgbClr val="97cd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H="1" rot="10800000">
            <a:off x="0" y="1773000"/>
            <a:ext cx="9144000" cy="2447640"/>
          </a:xfrm>
          <a:prstGeom prst="wedgeEllipseCallout">
            <a:avLst>
              <a:gd name="adj1" fmla="val -34083"/>
              <a:gd name="adj2" fmla="val 54342"/>
            </a:avLst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16200000"/>
          </a:gradFill>
          <a:ln w="5724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Первым основанием, известным человеку, был гидроксид кальция, письменное упоминание о котором нашли в сочинении персидского врача Абу Мансура «Трактат об основах фармакологии», написанном в 975г.н.э.Какой общей формулой можно записать основа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948360" y="6237360"/>
            <a:ext cx="1979640" cy="433440"/>
          </a:xfrm>
          <a:prstGeom prst="bevel">
            <a:avLst>
              <a:gd name="adj" fmla="val 125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должить иг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427640" y="981000"/>
            <a:ext cx="41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«Основани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7" dur="indefinite" restart="never" nodeType="tmRoot">
          <p:childTnLst>
            <p:seq>
              <p:cTn id="1348" dur="indefinite" nodeType="mainSeq">
                <p:childTnLst>
                  <p:par>
                    <p:cTn id="1349" fill="hold">
                      <p:stCondLst>
                        <p:cond delay="0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53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6" dur="385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7" dur="385" fill="hold"/>
                                        <p:tgtEl>
                                          <p:spTgt spid="5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5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59" dur="385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6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61" dur="385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6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5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5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9" dur="5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5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5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5" dur="5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5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5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5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419280" y="2205000"/>
            <a:ext cx="439236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14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Elephant"/>
              </a:rPr>
              <a:t>В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14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Elephant"/>
              </a:rPr>
              <a:t>зарабатывае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14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Demi"/>
              </a:rPr>
              <a:t>20</a:t>
            </a:r>
            <a:r>
              <a:rPr b="1" lang="en-US" sz="4900" spc="-1" strike="noStrike">
                <a:solidFill>
                  <a:srgbClr val="ff0000"/>
                </a:solidFill>
                <a:latin typeface="Franklin Gothic Demi"/>
              </a:rPr>
              <a:t> </a:t>
            </a:r>
            <a:r>
              <a:rPr b="1" i="1" lang="en-US" sz="4100" spc="-1" strike="noStrike">
                <a:solidFill>
                  <a:srgbClr val="ff0000"/>
                </a:solidFill>
                <a:latin typeface="Courier New"/>
              </a:rPr>
              <a:t>баллов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403280" y="627120"/>
            <a:ext cx="1513080" cy="9716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1042920" y="2492280"/>
            <a:ext cx="1728720" cy="3294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 flipH="1">
            <a:off x="6732360" y="620640"/>
            <a:ext cx="1657080" cy="9478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2771640" y="836640"/>
            <a:ext cx="4392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_PresentumNrSh"/>
              </a:rPr>
              <a:t>ответ верный !</a:t>
            </a:r>
            <a:endParaRPr b="0" lang="en-US" sz="1800" spc="1" strike="noStrike">
              <a:ln w="2844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_PresentumNrSh"/>
              <a:ea typeface="a_PresentumNrSh"/>
            </a:endParaRPr>
          </a:p>
        </p:txBody>
      </p:sp>
      <p:sp>
        <p:nvSpPr>
          <p:cNvPr id="147" name=""/>
          <p:cNvSpPr txBox="1"/>
          <p:nvPr/>
        </p:nvSpPr>
        <p:spPr>
          <a:xfrm rot="20481600">
            <a:off x="1042920" y="3573360"/>
            <a:ext cx="65556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ра!</a:t>
            </a: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8" name="">
            <a:hlinkClick r:id="rId5" action="ppaction://hlinksldjump"/>
          </p:cNvPr>
          <p:cNvSpPr/>
          <p:nvPr/>
        </p:nvSpPr>
        <p:spPr>
          <a:xfrm>
            <a:off x="6443640" y="6308640"/>
            <a:ext cx="2411280" cy="433440"/>
          </a:xfrm>
          <a:prstGeom prst="bevel">
            <a:avLst>
              <a:gd name="adj" fmla="val 125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должить иг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250" autoRev="1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2" dur="250" autoRev="1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3" dur="250" autoRev="1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64 1.48148E-006 C -0.00973 -0.04421 -0.02292 -0.08796 -0.02466 -0.11505 C -0.02622 -0.1419 -0.01615 -0.15139 -0.00643 -0.16134 C 0.00312 -0.1713 0.01909 -0.16921 0.03385 -0.175 C 0.04878 -0.18079 0.07465 -0.19352 0.08246 -0.19676 E">
                                      <p:cBhvr>
                                        <p:cTn id="85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6000"/>
                            </p:stCondLst>
                            <p:childTnLst>
                              <p:par>
                                <p:cTn id="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4745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>
            <a:hlinkClick r:id="rId2" action="ppaction://hlinksldjump"/>
          </p:cNvPr>
          <p:cNvSpPr/>
          <p:nvPr/>
        </p:nvSpPr>
        <p:spPr>
          <a:xfrm>
            <a:off x="324000" y="5300640"/>
            <a:ext cx="8497800" cy="936720"/>
          </a:xfrm>
          <a:prstGeom prst="ellipse">
            <a:avLst/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5400000"/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NaOH; Cu(OH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>
            <a:hlinkClick r:id="rId3" action="ppaction://hlinksldjump"/>
          </p:cNvPr>
          <p:cNvSpPr/>
          <p:nvPr/>
        </p:nvSpPr>
        <p:spPr>
          <a:xfrm>
            <a:off x="250920" y="4365720"/>
            <a:ext cx="8642160" cy="863640"/>
          </a:xfrm>
          <a:prstGeom prst="ellipse">
            <a:avLst/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5400000"/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OH; Zn(OH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>
            <a:hlinkClick r:id="rId4" action="ppaction://hlinksldjump"/>
          </p:cNvPr>
          <p:cNvSpPr/>
          <p:nvPr/>
        </p:nvSpPr>
        <p:spPr>
          <a:xfrm>
            <a:off x="250920" y="3357720"/>
            <a:ext cx="8893080" cy="934920"/>
          </a:xfrm>
          <a:prstGeom prst="ellipse">
            <a:avLst/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5400000"/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Ba(OH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; Li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68360" y="404640"/>
            <a:ext cx="12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ladimir Script"/>
              </a:rPr>
              <a:t>ИГРА</a:t>
            </a:r>
            <a:endParaRPr b="1" lang="en-US" sz="44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ladimir Script"/>
              <a:ea typeface="Vladimir Script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1979640" y="404640"/>
            <a:ext cx="1871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ХОЧУ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067280" y="333360"/>
            <a:ext cx="1368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СЁ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5724360" y="404640"/>
            <a:ext cx="2665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НАТЬ!"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7"/>
          <a:stretch/>
        </p:blipFill>
        <p:spPr>
          <a:xfrm>
            <a:off x="2124000" y="907920"/>
            <a:ext cx="6335640" cy="21744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 txBox="1"/>
          <p:nvPr/>
        </p:nvSpPr>
        <p:spPr>
          <a:xfrm>
            <a:off x="2700360" y="1341360"/>
            <a:ext cx="1152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Gautami"/>
              </a:rPr>
              <a:t>ТЕМА :</a:t>
            </a:r>
            <a:endParaRPr b="1" i="1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Gautami"/>
              <a:ea typeface="Gautami"/>
            </a:endParaRPr>
          </a:p>
        </p:txBody>
      </p:sp>
      <p:sp>
        <p:nvSpPr>
          <p:cNvPr id="567" name=""/>
          <p:cNvSpPr/>
          <p:nvPr/>
        </p:nvSpPr>
        <p:spPr>
          <a:xfrm>
            <a:off x="755640" y="981000"/>
            <a:ext cx="720720" cy="647640"/>
          </a:xfrm>
          <a:custGeom>
            <a:avLst/>
            <a:gdLst>
              <a:gd name="textAreaLeft" fmla="*/ 92160 w 720720"/>
              <a:gd name="textAreaRight" fmla="*/ 628560 w 720720"/>
              <a:gd name="textAreaTop" fmla="*/ 92160 h 647640"/>
              <a:gd name="textAreaBottom" fmla="*/ 5554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0961" y="3075"/>
                </a:lnTo>
                <a:lnTo>
                  <a:pt x="3075" y="3075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0961" y="18525"/>
                </a:lnTo>
                <a:lnTo>
                  <a:pt x="20961" y="3075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3075" y="18525"/>
                </a:lnTo>
                <a:lnTo>
                  <a:pt x="20961" y="18525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3075" y="3075"/>
                </a:lnTo>
                <a:lnTo>
                  <a:pt x="3075" y="18525"/>
                </a:lnTo>
                <a:close/>
              </a:path>
            </a:pathLst>
          </a:custGeom>
          <a:gradFill rotWithShape="0">
            <a:gsLst>
              <a:gs pos="0">
                <a:srgbClr val="97cd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 rot="10800000">
            <a:off x="249840" y="1699920"/>
            <a:ext cx="8569080" cy="1584360"/>
          </a:xfrm>
          <a:prstGeom prst="wedgeEllipseCallout">
            <a:avLst>
              <a:gd name="adj1" fmla="val -35884"/>
              <a:gd name="adj2" fmla="val 52000"/>
            </a:avLst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16200000"/>
          </a:gradFill>
          <a:ln w="5724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Гидроксид натрия ещё называют «едкий натр», т.к. при растворении в воде образуется щёлочь-едкое вещество. Щелочами являю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948360" y="6237360"/>
            <a:ext cx="1979640" cy="433440"/>
          </a:xfrm>
          <a:prstGeom prst="bevel">
            <a:avLst>
              <a:gd name="adj" fmla="val 125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должить иг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572000" y="105264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«Основани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50920" y="4365720"/>
            <a:ext cx="8642160" cy="863640"/>
          </a:xfrm>
          <a:prstGeom prst="ellipse">
            <a:avLst/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5400000"/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OH; Zn(OH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50920" y="3357720"/>
            <a:ext cx="8893080" cy="934920"/>
          </a:xfrm>
          <a:prstGeom prst="ellipse">
            <a:avLst/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5400000"/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Ba(OH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; Li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50920" y="4365720"/>
            <a:ext cx="8642160" cy="863640"/>
          </a:xfrm>
          <a:prstGeom prst="ellipse">
            <a:avLst/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5400000"/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KOH; Zn(OH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50920" y="3357720"/>
            <a:ext cx="8713800" cy="934920"/>
          </a:xfrm>
          <a:prstGeom prst="ellipse">
            <a:avLst/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5400000"/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Ba(OH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; Li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9" dur="indefinite" restart="never" nodeType="tmRoot">
          <p:childTnLst>
            <p:seq>
              <p:cTn id="1390" dur="indefinite" nodeType="mainSeq">
                <p:childTnLst>
                  <p:par>
                    <p:cTn id="1391" fill="hold">
                      <p:stCondLst>
                        <p:cond delay="0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9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8" dur="385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9" dur="385" fill="hold"/>
                                        <p:tgtEl>
                                          <p:spTgt spid="5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0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01" dur="385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0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03" dur="385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0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2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5" dur="5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5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5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5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1" dur="5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5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5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5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7" dur="5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5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5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3" dur="5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5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5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5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9" dur="5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5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5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5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5" dur="5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5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5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5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1" dur="5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5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5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5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>
            <a:hlinkClick r:id="rId2" action="ppaction://hlinksldjump"/>
          </p:cNvPr>
          <p:cNvSpPr/>
          <p:nvPr/>
        </p:nvSpPr>
        <p:spPr>
          <a:xfrm>
            <a:off x="2411280" y="5373720"/>
            <a:ext cx="4032360" cy="1225440"/>
          </a:xfrm>
          <a:prstGeom prst="ellipse">
            <a:avLst/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5400000"/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) метилоран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>
            <a:hlinkClick r:id="rId3" action="ppaction://hlinksldjump"/>
          </p:cNvPr>
          <p:cNvSpPr/>
          <p:nvPr/>
        </p:nvSpPr>
        <p:spPr>
          <a:xfrm>
            <a:off x="4788000" y="4221000"/>
            <a:ext cx="4176720" cy="1225800"/>
          </a:xfrm>
          <a:prstGeom prst="ellipse">
            <a:avLst/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5400000"/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)фенолфтале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>
            <a:hlinkClick r:id="rId4" action="ppaction://hlinksldjump"/>
          </p:cNvPr>
          <p:cNvSpPr/>
          <p:nvPr/>
        </p:nvSpPr>
        <p:spPr>
          <a:xfrm>
            <a:off x="324000" y="4221000"/>
            <a:ext cx="4032000" cy="1225800"/>
          </a:xfrm>
          <a:prstGeom prst="ellipse">
            <a:avLst/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5400000"/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) лакму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468360" y="404640"/>
            <a:ext cx="12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ladimir Script"/>
              </a:rPr>
              <a:t>ИГРА</a:t>
            </a:r>
            <a:endParaRPr b="1" lang="en-US" sz="44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ladimir Script"/>
              <a:ea typeface="Vladimir Script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1979640" y="404640"/>
            <a:ext cx="1871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ХОЧУ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067280" y="333360"/>
            <a:ext cx="1368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СЁ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5724360" y="404640"/>
            <a:ext cx="2665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НАТЬ!"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7"/>
          <a:stretch/>
        </p:blipFill>
        <p:spPr>
          <a:xfrm>
            <a:off x="2124000" y="907920"/>
            <a:ext cx="6335640" cy="217440"/>
          </a:xfrm>
          <a:prstGeom prst="rect">
            <a:avLst/>
          </a:prstGeom>
          <a:ln w="0">
            <a:noFill/>
          </a:ln>
        </p:spPr>
      </p:pic>
      <p:sp>
        <p:nvSpPr>
          <p:cNvPr id="583" name=""/>
          <p:cNvSpPr txBox="1"/>
          <p:nvPr/>
        </p:nvSpPr>
        <p:spPr>
          <a:xfrm>
            <a:off x="2700360" y="1341360"/>
            <a:ext cx="1152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Gautami"/>
              </a:rPr>
              <a:t>ТЕМА :</a:t>
            </a:r>
            <a:endParaRPr b="1" i="1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Gautami"/>
              <a:ea typeface="Gautami"/>
            </a:endParaRPr>
          </a:p>
        </p:txBody>
      </p:sp>
      <p:sp>
        <p:nvSpPr>
          <p:cNvPr id="584" name=""/>
          <p:cNvSpPr/>
          <p:nvPr/>
        </p:nvSpPr>
        <p:spPr>
          <a:xfrm>
            <a:off x="755640" y="981000"/>
            <a:ext cx="720720" cy="647640"/>
          </a:xfrm>
          <a:custGeom>
            <a:avLst/>
            <a:gdLst>
              <a:gd name="textAreaLeft" fmla="*/ 92160 w 720720"/>
              <a:gd name="textAreaRight" fmla="*/ 628560 w 720720"/>
              <a:gd name="textAreaTop" fmla="*/ 92160 h 647640"/>
              <a:gd name="textAreaBottom" fmla="*/ 5554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0961" y="3075"/>
                </a:lnTo>
                <a:lnTo>
                  <a:pt x="3075" y="3075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0961" y="18525"/>
                </a:lnTo>
                <a:lnTo>
                  <a:pt x="20961" y="3075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3075" y="18525"/>
                </a:lnTo>
                <a:lnTo>
                  <a:pt x="20961" y="18525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3075" y="3075"/>
                </a:lnTo>
                <a:lnTo>
                  <a:pt x="3075" y="18525"/>
                </a:lnTo>
                <a:close/>
              </a:path>
            </a:pathLst>
          </a:custGeom>
          <a:gradFill rotWithShape="0">
            <a:gsLst>
              <a:gs pos="0">
                <a:srgbClr val="97cd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H="1" rot="10800000">
            <a:off x="249840" y="1989000"/>
            <a:ext cx="8569080" cy="2232000"/>
          </a:xfrm>
          <a:prstGeom prst="wedgeEllipseCallout">
            <a:avLst>
              <a:gd name="adj1" fmla="val -35828"/>
              <a:gd name="adj2" fmla="val 64504"/>
            </a:avLst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16200000"/>
          </a:gradFill>
          <a:ln w="5724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«В щелочной среде краснею, в кислой быть цветным не смею» - с помощью этого индикатора определяют растворимые основания. О каком индикаторе идёт реч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6237360"/>
            <a:ext cx="1979640" cy="433440"/>
          </a:xfrm>
          <a:prstGeom prst="bevel">
            <a:avLst>
              <a:gd name="adj" fmla="val 125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должить иг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572000" y="981000"/>
            <a:ext cx="38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«Основани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5" dur="indefinite" restart="never" nodeType="tmRoot">
          <p:childTnLst>
            <p:seq>
              <p:cTn id="1456" dur="indefinite" nodeType="mainSeq">
                <p:childTnLst>
                  <p:par>
                    <p:cTn id="1457" fill="hold">
                      <p:stCondLst>
                        <p:cond delay="0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61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4" dur="385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5" dur="385" fill="hold"/>
                                        <p:tgtEl>
                                          <p:spTgt spid="5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6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67" dur="385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6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69" dur="385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7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1" dur="5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5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5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5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7" dur="5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5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5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5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3" dur="5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5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5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5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>
            <a:hlinkClick r:id="rId2" action="ppaction://hlinksldjump"/>
          </p:cNvPr>
          <p:cNvSpPr/>
          <p:nvPr/>
        </p:nvSpPr>
        <p:spPr>
          <a:xfrm>
            <a:off x="2411280" y="5373720"/>
            <a:ext cx="4032360" cy="1225440"/>
          </a:xfrm>
          <a:prstGeom prst="ellipse">
            <a:avLst/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5400000"/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u; 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>
            <a:hlinkClick r:id="rId3" action="ppaction://hlinksldjump"/>
          </p:cNvPr>
          <p:cNvSpPr/>
          <p:nvPr/>
        </p:nvSpPr>
        <p:spPr>
          <a:xfrm>
            <a:off x="4788000" y="4221000"/>
            <a:ext cx="4032000" cy="1225800"/>
          </a:xfrm>
          <a:prstGeom prst="ellipse">
            <a:avLst/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5400000"/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l; 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>
            <a:hlinkClick r:id="rId4" action="ppaction://hlinksldjump"/>
          </p:cNvPr>
          <p:cNvSpPr/>
          <p:nvPr/>
        </p:nvSpPr>
        <p:spPr>
          <a:xfrm>
            <a:off x="324000" y="4221000"/>
            <a:ext cx="4032000" cy="1225800"/>
          </a:xfrm>
          <a:prstGeom prst="ellipse">
            <a:avLst/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5400000"/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; 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468360" y="404640"/>
            <a:ext cx="12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ladimir Script"/>
              </a:rPr>
              <a:t>ИГРА</a:t>
            </a:r>
            <a:endParaRPr b="1" lang="en-US" sz="44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ladimir Script"/>
              <a:ea typeface="Vladimir Script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1979640" y="404640"/>
            <a:ext cx="1871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ХОЧУ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4067280" y="333360"/>
            <a:ext cx="1368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СЁ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5724360" y="404640"/>
            <a:ext cx="2665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НАТЬ!"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7"/>
          <a:stretch/>
        </p:blipFill>
        <p:spPr>
          <a:xfrm>
            <a:off x="2124000" y="907920"/>
            <a:ext cx="6335640" cy="21744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 txBox="1"/>
          <p:nvPr/>
        </p:nvSpPr>
        <p:spPr>
          <a:xfrm>
            <a:off x="2700360" y="1341360"/>
            <a:ext cx="1152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Gautami"/>
              </a:rPr>
              <a:t>ТЕМА :</a:t>
            </a:r>
            <a:endParaRPr b="1" i="1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Gautami"/>
              <a:ea typeface="Gautami"/>
            </a:endParaRPr>
          </a:p>
        </p:txBody>
      </p:sp>
      <p:sp>
        <p:nvSpPr>
          <p:cNvPr id="597" name=""/>
          <p:cNvSpPr/>
          <p:nvPr/>
        </p:nvSpPr>
        <p:spPr>
          <a:xfrm>
            <a:off x="755640" y="981000"/>
            <a:ext cx="720720" cy="647640"/>
          </a:xfrm>
          <a:custGeom>
            <a:avLst/>
            <a:gdLst>
              <a:gd name="textAreaLeft" fmla="*/ 92160 w 720720"/>
              <a:gd name="textAreaRight" fmla="*/ 628560 w 720720"/>
              <a:gd name="textAreaTop" fmla="*/ 92160 h 647640"/>
              <a:gd name="textAreaBottom" fmla="*/ 5554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0961" y="3075"/>
                </a:lnTo>
                <a:lnTo>
                  <a:pt x="3075" y="3075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0961" y="18525"/>
                </a:lnTo>
                <a:lnTo>
                  <a:pt x="20961" y="3075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3075" y="18525"/>
                </a:lnTo>
                <a:lnTo>
                  <a:pt x="20961" y="18525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3075" y="3075"/>
                </a:lnTo>
                <a:lnTo>
                  <a:pt x="3075" y="18525"/>
                </a:lnTo>
                <a:close/>
              </a:path>
            </a:pathLst>
          </a:custGeom>
          <a:gradFill rotWithShape="0">
            <a:gsLst>
              <a:gs pos="0">
                <a:srgbClr val="97cd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H="1" rot="10800000">
            <a:off x="970560" y="2421000"/>
            <a:ext cx="6840360" cy="1295280"/>
          </a:xfrm>
          <a:prstGeom prst="wedgeEllipseCallout">
            <a:avLst>
              <a:gd name="adj1" fmla="val -42879"/>
              <a:gd name="adj2" fmla="val 108453"/>
            </a:avLst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16200000"/>
          </a:gradFill>
          <a:ln w="5724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Из каких элементов нельзя составить формулы основани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948360" y="6237360"/>
            <a:ext cx="1979640" cy="433440"/>
          </a:xfrm>
          <a:prstGeom prst="bevel">
            <a:avLst>
              <a:gd name="adj" fmla="val 125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должить иг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00720" y="1052640"/>
            <a:ext cx="42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«Основани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7" dur="indefinite" restart="never" nodeType="tmRoot">
          <p:childTnLst>
            <p:seq>
              <p:cTn id="1498" dur="indefinite" nodeType="mainSeq">
                <p:childTnLst>
                  <p:par>
                    <p:cTn id="1499" fill="hold">
                      <p:stCondLst>
                        <p:cond delay="0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03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6" dur="385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7" dur="385" fill="hold"/>
                                        <p:tgtEl>
                                          <p:spTgt spid="5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0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09" dur="385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1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11" dur="385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1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6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0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3" dur="5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5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5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5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9" dur="5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5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5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5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5" dur="5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5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5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5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>
            <a:hlinkClick r:id="rId2" action="ppaction://hlinksldjump"/>
          </p:cNvPr>
          <p:cNvSpPr/>
          <p:nvPr/>
        </p:nvSpPr>
        <p:spPr>
          <a:xfrm>
            <a:off x="2411280" y="5373720"/>
            <a:ext cx="4032360" cy="1225440"/>
          </a:xfrm>
          <a:prstGeom prst="ellipse">
            <a:avLst/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5400000"/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) К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>
            <a:hlinkClick r:id="rId3" action="ppaction://hlinksldjump"/>
          </p:cNvPr>
          <p:cNvSpPr/>
          <p:nvPr/>
        </p:nvSpPr>
        <p:spPr>
          <a:xfrm>
            <a:off x="4788000" y="4221000"/>
            <a:ext cx="4032000" cy="1225800"/>
          </a:xfrm>
          <a:prstGeom prst="ellipse">
            <a:avLst/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5400000"/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(OH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>
            <a:hlinkClick r:id="rId4" action="ppaction://hlinksldjump"/>
          </p:cNvPr>
          <p:cNvSpPr/>
          <p:nvPr/>
        </p:nvSpPr>
        <p:spPr>
          <a:xfrm>
            <a:off x="324000" y="4221000"/>
            <a:ext cx="4032000" cy="1225800"/>
          </a:xfrm>
          <a:prstGeom prst="ellipse">
            <a:avLst/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5400000"/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n(OH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468360" y="404640"/>
            <a:ext cx="12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ladimir Script"/>
              </a:rPr>
              <a:t>ИГРА</a:t>
            </a:r>
            <a:endParaRPr b="1" lang="en-US" sz="44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ladimir Script"/>
              <a:ea typeface="Vladimir Scrip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1979640" y="404640"/>
            <a:ext cx="1871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ХОЧУ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4067280" y="333360"/>
            <a:ext cx="1368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СЁ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724360" y="549360"/>
            <a:ext cx="2665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НАТЬ!"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08" name="" descr=""/>
          <p:cNvPicPr/>
          <p:nvPr/>
        </p:nvPicPr>
        <p:blipFill>
          <a:blip r:embed="rId7"/>
          <a:stretch/>
        </p:blipFill>
        <p:spPr>
          <a:xfrm>
            <a:off x="2124000" y="907920"/>
            <a:ext cx="6335640" cy="217440"/>
          </a:xfrm>
          <a:prstGeom prst="rect">
            <a:avLst/>
          </a:prstGeom>
          <a:ln w="0">
            <a:noFill/>
          </a:ln>
        </p:spPr>
      </p:pic>
      <p:sp>
        <p:nvSpPr>
          <p:cNvPr id="609" name=""/>
          <p:cNvSpPr txBox="1"/>
          <p:nvPr/>
        </p:nvSpPr>
        <p:spPr>
          <a:xfrm>
            <a:off x="2700360" y="1341360"/>
            <a:ext cx="1152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Gautami"/>
              </a:rPr>
              <a:t>ТЕМА :</a:t>
            </a:r>
            <a:endParaRPr b="1" i="1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Gautami"/>
              <a:ea typeface="Gautami"/>
            </a:endParaRPr>
          </a:p>
        </p:txBody>
      </p:sp>
      <p:sp>
        <p:nvSpPr>
          <p:cNvPr id="610" name=""/>
          <p:cNvSpPr/>
          <p:nvPr/>
        </p:nvSpPr>
        <p:spPr>
          <a:xfrm>
            <a:off x="755640" y="981000"/>
            <a:ext cx="720720" cy="647640"/>
          </a:xfrm>
          <a:custGeom>
            <a:avLst/>
            <a:gdLst>
              <a:gd name="textAreaLeft" fmla="*/ 92160 w 720720"/>
              <a:gd name="textAreaRight" fmla="*/ 628560 w 720720"/>
              <a:gd name="textAreaTop" fmla="*/ 92160 h 647640"/>
              <a:gd name="textAreaBottom" fmla="*/ 5554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0961" y="3075"/>
                </a:lnTo>
                <a:lnTo>
                  <a:pt x="3075" y="3075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0961" y="18525"/>
                </a:lnTo>
                <a:lnTo>
                  <a:pt x="20961" y="3075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3075" y="18525"/>
                </a:lnTo>
                <a:lnTo>
                  <a:pt x="20961" y="18525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3075" y="3075"/>
                </a:lnTo>
                <a:lnTo>
                  <a:pt x="3075" y="18525"/>
                </a:lnTo>
                <a:close/>
              </a:path>
            </a:pathLst>
          </a:custGeom>
          <a:gradFill rotWithShape="0">
            <a:gsLst>
              <a:gs pos="0">
                <a:srgbClr val="97cd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rot="10800000">
            <a:off x="898920" y="2565000"/>
            <a:ext cx="6985080" cy="1368360"/>
          </a:xfrm>
          <a:prstGeom prst="wedgeEllipseCallout">
            <a:avLst>
              <a:gd name="adj1" fmla="val -42023"/>
              <a:gd name="adj2" fmla="val 115657"/>
            </a:avLst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16200000"/>
          </a:gradFill>
          <a:ln w="5724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Щелочью являе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948360" y="6237360"/>
            <a:ext cx="1979640" cy="433440"/>
          </a:xfrm>
          <a:prstGeom prst="bevel">
            <a:avLst>
              <a:gd name="adj" fmla="val 125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должить иг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219640" y="994680"/>
            <a:ext cx="360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«Основани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9" dur="indefinite" restart="never" nodeType="tmRoot">
          <p:childTnLst>
            <p:seq>
              <p:cTn id="1540" dur="indefinite" nodeType="mainSeq">
                <p:childTnLst>
                  <p:par>
                    <p:cTn id="1541" fill="hold">
                      <p:stCondLst>
                        <p:cond delay="0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4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8" dur="385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49" dur="385" fill="hold"/>
                                        <p:tgtEl>
                                          <p:spTgt spid="6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5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51" dur="385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5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53" dur="385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5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5" dur="5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5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5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5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1" dur="5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5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5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5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7" dur="5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5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5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5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>
            <a:hlinkClick r:id="rId2" action="ppaction://hlinksldjump"/>
          </p:cNvPr>
          <p:cNvSpPr/>
          <p:nvPr/>
        </p:nvSpPr>
        <p:spPr>
          <a:xfrm>
            <a:off x="2411280" y="5373720"/>
            <a:ext cx="4032360" cy="1225440"/>
          </a:xfrm>
          <a:prstGeom prst="ellipse">
            <a:avLst/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5400000"/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>
            <a:hlinkClick r:id="rId3" action="ppaction://hlinksldjump"/>
          </p:cNvPr>
          <p:cNvSpPr/>
          <p:nvPr/>
        </p:nvSpPr>
        <p:spPr>
          <a:xfrm>
            <a:off x="4788000" y="4221000"/>
            <a:ext cx="4032000" cy="1225800"/>
          </a:xfrm>
          <a:prstGeom prst="ellipse">
            <a:avLst/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5400000"/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(OH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>
            <a:hlinkClick r:id="rId4" action="ppaction://hlinksldjump"/>
          </p:cNvPr>
          <p:cNvSpPr/>
          <p:nvPr/>
        </p:nvSpPr>
        <p:spPr>
          <a:xfrm>
            <a:off x="324000" y="4221000"/>
            <a:ext cx="4032000" cy="1225800"/>
          </a:xfrm>
          <a:prstGeom prst="ellipse">
            <a:avLst/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5400000"/>
          </a:gra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l(OH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468360" y="404640"/>
            <a:ext cx="12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ladimir Script"/>
              </a:rPr>
              <a:t>ИГРА</a:t>
            </a:r>
            <a:endParaRPr b="1" lang="en-US" sz="44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ladimir Script"/>
              <a:ea typeface="Vladimir Script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1979640" y="404640"/>
            <a:ext cx="1871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ХОЧУ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4067280" y="333360"/>
            <a:ext cx="1368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СЁ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5724360" y="404640"/>
            <a:ext cx="2665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НАТЬ!"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21" name="" descr=""/>
          <p:cNvPicPr/>
          <p:nvPr/>
        </p:nvPicPr>
        <p:blipFill>
          <a:blip r:embed="rId7"/>
          <a:stretch/>
        </p:blipFill>
        <p:spPr>
          <a:xfrm>
            <a:off x="2124000" y="907920"/>
            <a:ext cx="6335640" cy="217440"/>
          </a:xfrm>
          <a:prstGeom prst="rect">
            <a:avLst/>
          </a:prstGeom>
          <a:ln w="0">
            <a:noFill/>
          </a:ln>
        </p:spPr>
      </p:pic>
      <p:sp>
        <p:nvSpPr>
          <p:cNvPr id="622" name=""/>
          <p:cNvSpPr txBox="1"/>
          <p:nvPr/>
        </p:nvSpPr>
        <p:spPr>
          <a:xfrm>
            <a:off x="2700360" y="1341360"/>
            <a:ext cx="1152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Gautami"/>
              </a:rPr>
              <a:t>ТЕМА :</a:t>
            </a:r>
            <a:endParaRPr b="1" i="1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Gautami"/>
              <a:ea typeface="Gautami"/>
            </a:endParaRPr>
          </a:p>
        </p:txBody>
      </p:sp>
      <p:sp>
        <p:nvSpPr>
          <p:cNvPr id="623" name=""/>
          <p:cNvSpPr/>
          <p:nvPr/>
        </p:nvSpPr>
        <p:spPr>
          <a:xfrm>
            <a:off x="755640" y="981000"/>
            <a:ext cx="720720" cy="647640"/>
          </a:xfrm>
          <a:custGeom>
            <a:avLst/>
            <a:gdLst>
              <a:gd name="textAreaLeft" fmla="*/ 92160 w 720720"/>
              <a:gd name="textAreaRight" fmla="*/ 628560 w 720720"/>
              <a:gd name="textAreaTop" fmla="*/ 92160 h 647640"/>
              <a:gd name="textAreaBottom" fmla="*/ 5554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0961" y="3075"/>
                </a:lnTo>
                <a:lnTo>
                  <a:pt x="3075" y="3075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0961" y="18525"/>
                </a:lnTo>
                <a:lnTo>
                  <a:pt x="20961" y="3075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3075" y="18525"/>
                </a:lnTo>
                <a:lnTo>
                  <a:pt x="20961" y="18525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3075" y="3075"/>
                </a:lnTo>
                <a:lnTo>
                  <a:pt x="3075" y="18525"/>
                </a:lnTo>
                <a:close/>
              </a:path>
            </a:pathLst>
          </a:custGeom>
          <a:gradFill rotWithShape="0">
            <a:gsLst>
              <a:gs pos="0">
                <a:srgbClr val="97cd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 flipH="1" rot="10800000">
            <a:off x="249840" y="1989000"/>
            <a:ext cx="8569080" cy="2232000"/>
          </a:xfrm>
          <a:prstGeom prst="wedgeEllipseCallout">
            <a:avLst>
              <a:gd name="adj1" fmla="val -35828"/>
              <a:gd name="adj2" fmla="val 64504"/>
            </a:avLst>
          </a:prstGeom>
          <a:gradFill rotWithShape="0">
            <a:gsLst>
              <a:gs pos="0">
                <a:srgbClr val="666699"/>
              </a:gs>
              <a:gs pos="50000">
                <a:srgbClr val="ffffcc"/>
              </a:gs>
              <a:gs pos="100000">
                <a:srgbClr val="666699"/>
              </a:gs>
            </a:gsLst>
            <a:lin ang="16200000"/>
          </a:gradFill>
          <a:ln w="5724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Молекулярная формула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гидроксида алюминия имеет ви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948360" y="6237360"/>
            <a:ext cx="1979640" cy="433440"/>
          </a:xfrm>
          <a:prstGeom prst="bevel">
            <a:avLst>
              <a:gd name="adj" fmla="val 125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должить иг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716360" y="996120"/>
            <a:ext cx="381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«Основани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1" dur="indefinite" restart="never" nodeType="tmRoot">
          <p:childTnLst>
            <p:seq>
              <p:cTn id="1582" dur="indefinite" nodeType="mainSeq">
                <p:childTnLst>
                  <p:par>
                    <p:cTn id="1583" fill="hold">
                      <p:stCondLst>
                        <p:cond delay="0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8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0" dur="385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1" dur="385" fill="hold"/>
                                        <p:tgtEl>
                                          <p:spTgt spid="6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9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93" dur="385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9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95" dur="385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9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4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7" dur="5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5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5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3" dur="5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5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5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5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9" dur="5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5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5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5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419280" y="2205000"/>
            <a:ext cx="439236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14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Elephant"/>
              </a:rPr>
              <a:t>В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14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Elephant"/>
              </a:rPr>
              <a:t>зарабатывае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14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Demi"/>
              </a:rPr>
              <a:t>30</a:t>
            </a:r>
            <a:r>
              <a:rPr b="1" lang="en-US" sz="4900" spc="-1" strike="noStrike">
                <a:solidFill>
                  <a:srgbClr val="ff0000"/>
                </a:solidFill>
                <a:latin typeface="Franklin Gothic Demi"/>
              </a:rPr>
              <a:t> </a:t>
            </a:r>
            <a:r>
              <a:rPr b="1" i="1" lang="en-US" sz="4100" spc="-1" strike="noStrike">
                <a:solidFill>
                  <a:srgbClr val="ff0000"/>
                </a:solidFill>
                <a:latin typeface="Courier New"/>
              </a:rPr>
              <a:t>баллов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403280" y="627120"/>
            <a:ext cx="1513080" cy="9716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1042920" y="2492280"/>
            <a:ext cx="1728720" cy="3294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 flipH="1">
            <a:off x="6732360" y="620640"/>
            <a:ext cx="1657080" cy="9478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2771640" y="836640"/>
            <a:ext cx="4321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_PresentumNrSh"/>
              </a:rPr>
              <a:t>ответ верный !</a:t>
            </a:r>
            <a:endParaRPr b="0" lang="en-US" sz="1800" spc="1" strike="noStrike">
              <a:ln w="2844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_PresentumNrSh"/>
              <a:ea typeface="a_PresentumNrSh"/>
            </a:endParaRPr>
          </a:p>
        </p:txBody>
      </p:sp>
      <p:sp>
        <p:nvSpPr>
          <p:cNvPr id="155" name=""/>
          <p:cNvSpPr txBox="1"/>
          <p:nvPr/>
        </p:nvSpPr>
        <p:spPr>
          <a:xfrm rot="20481600">
            <a:off x="1042920" y="3573360"/>
            <a:ext cx="65556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ра!</a:t>
            </a: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6" name="">
            <a:hlinkClick r:id="rId5" action="ppaction://hlinksldjump"/>
          </p:cNvPr>
          <p:cNvSpPr/>
          <p:nvPr/>
        </p:nvSpPr>
        <p:spPr>
          <a:xfrm>
            <a:off x="6443640" y="6308640"/>
            <a:ext cx="2411280" cy="433440"/>
          </a:xfrm>
          <a:prstGeom prst="bevel">
            <a:avLst>
              <a:gd name="adj" fmla="val 125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должить иг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250" autoRev="1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5" dur="250" autoRev="1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6" dur="250" autoRev="1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64 1.48148E-006 C -0.00973 -0.04421 -0.02292 -0.08796 -0.02466 -0.11505 C -0.02622 -0.1419 -0.01615 -0.15139 -0.00643 -0.16134 C 0.00312 -0.1713 0.01909 -0.16921 0.03385 -0.175 C 0.04878 -0.18079 0.07465 -0.19352 0.08246 -0.19676 E">
                                      <p:cBhvr>
                                        <p:cTn id="118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6000"/>
                            </p:stCondLst>
                            <p:childTnLst>
                              <p:par>
                                <p:cTn id="1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" dur="4745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419280" y="2205000"/>
            <a:ext cx="439236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14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Elephant"/>
              </a:rPr>
              <a:t>В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14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Elephant"/>
              </a:rPr>
              <a:t>зарабатывае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14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Demi"/>
              </a:rPr>
              <a:t>40</a:t>
            </a:r>
            <a:r>
              <a:rPr b="1" lang="en-US" sz="4900" spc="-1" strike="noStrike">
                <a:solidFill>
                  <a:srgbClr val="ff0000"/>
                </a:solidFill>
                <a:latin typeface="Franklin Gothic Demi"/>
              </a:rPr>
              <a:t> </a:t>
            </a:r>
            <a:r>
              <a:rPr b="1" i="1" lang="en-US" sz="4100" spc="-1" strike="noStrike">
                <a:solidFill>
                  <a:srgbClr val="ff0000"/>
                </a:solidFill>
                <a:latin typeface="Courier New"/>
              </a:rPr>
              <a:t>баллов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403280" y="627120"/>
            <a:ext cx="1513080" cy="9716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1042920" y="2492280"/>
            <a:ext cx="1728720" cy="3294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 flipH="1">
            <a:off x="6732360" y="620640"/>
            <a:ext cx="1657080" cy="9478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2771640" y="836640"/>
            <a:ext cx="4464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_PresentumNrSh"/>
              </a:rPr>
              <a:t>ответ верный !</a:t>
            </a:r>
            <a:endParaRPr b="0" lang="en-US" sz="1800" spc="1" strike="noStrike">
              <a:ln w="2844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_PresentumNrSh"/>
              <a:ea typeface="a_PresentumNrSh"/>
            </a:endParaRPr>
          </a:p>
        </p:txBody>
      </p:sp>
      <p:sp>
        <p:nvSpPr>
          <p:cNvPr id="163" name=""/>
          <p:cNvSpPr txBox="1"/>
          <p:nvPr/>
        </p:nvSpPr>
        <p:spPr>
          <a:xfrm rot="20481600">
            <a:off x="1042920" y="3573360"/>
            <a:ext cx="65556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ра!</a:t>
            </a: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4" name="">
            <a:hlinkClick r:id="rId5" action="ppaction://hlinksldjump"/>
          </p:cNvPr>
          <p:cNvSpPr/>
          <p:nvPr/>
        </p:nvSpPr>
        <p:spPr>
          <a:xfrm>
            <a:off x="6443640" y="6308640"/>
            <a:ext cx="2411280" cy="433440"/>
          </a:xfrm>
          <a:prstGeom prst="bevel">
            <a:avLst>
              <a:gd name="adj" fmla="val 125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должить иг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" dur="250" autoRev="1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8" dur="250" autoRev="1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9" dur="250" autoRev="1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64 1.48148E-006 C -0.00973 -0.04421 -0.02292 -0.08796 -0.02466 -0.11505 C -0.02622 -0.1419 -0.01615 -0.15139 -0.00643 -0.16134 C 0.00312 -0.1713 0.01909 -0.16921 0.03385 -0.175 C 0.04878 -0.18079 0.07465 -0.19352 0.08246 -0.19676 E">
                                      <p:cBhvr>
                                        <p:cTn id="151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6000"/>
                            </p:stCondLst>
                            <p:childTnLst>
                              <p:par>
                                <p:cTn id="1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" dur="4745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419280" y="2205000"/>
            <a:ext cx="439236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14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Elephant"/>
              </a:rPr>
              <a:t>В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14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Elephant"/>
              </a:rPr>
              <a:t>зарабатывае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14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Demi"/>
              </a:rPr>
              <a:t>50</a:t>
            </a:r>
            <a:r>
              <a:rPr b="1" lang="en-US" sz="4900" spc="-1" strike="noStrike">
                <a:solidFill>
                  <a:srgbClr val="ff0000"/>
                </a:solidFill>
                <a:latin typeface="Franklin Gothic Demi"/>
              </a:rPr>
              <a:t> </a:t>
            </a:r>
            <a:r>
              <a:rPr b="1" i="1" lang="en-US" sz="4100" spc="-1" strike="noStrike">
                <a:solidFill>
                  <a:srgbClr val="ff0000"/>
                </a:solidFill>
                <a:latin typeface="Courier New"/>
              </a:rPr>
              <a:t>баллов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403280" y="627120"/>
            <a:ext cx="151308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1042920" y="2492280"/>
            <a:ext cx="1728720" cy="32940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 flipH="1">
            <a:off x="6732360" y="620640"/>
            <a:ext cx="1657080" cy="9478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2771640" y="836640"/>
            <a:ext cx="4392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_PresentumNrSh"/>
              </a:rPr>
              <a:t>ответ верный !</a:t>
            </a:r>
            <a:endParaRPr b="0" lang="en-US" sz="1800" spc="1" strike="noStrike">
              <a:ln w="2844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_PresentumNrSh"/>
              <a:ea typeface="a_PresentumNrSh"/>
            </a:endParaRPr>
          </a:p>
        </p:txBody>
      </p:sp>
      <p:sp>
        <p:nvSpPr>
          <p:cNvPr id="171" name=""/>
          <p:cNvSpPr txBox="1"/>
          <p:nvPr/>
        </p:nvSpPr>
        <p:spPr>
          <a:xfrm rot="20481600">
            <a:off x="1042920" y="3573360"/>
            <a:ext cx="65556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ра!</a:t>
            </a: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2" name="">
            <a:hlinkClick r:id="rId5" action="ppaction://hlinksldjump"/>
          </p:cNvPr>
          <p:cNvSpPr/>
          <p:nvPr/>
        </p:nvSpPr>
        <p:spPr>
          <a:xfrm>
            <a:off x="6443640" y="6308640"/>
            <a:ext cx="2411280" cy="433440"/>
          </a:xfrm>
          <a:prstGeom prst="bevel">
            <a:avLst>
              <a:gd name="adj" fmla="val 125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должить иг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" dur="250" autoRev="1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81" dur="250" autoRev="1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2" dur="250" autoRev="1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64 1.48148E-006 C -0.00973 -0.04421 -0.02292 -0.08796 -0.02466 -0.11505 C -0.02622 -0.1419 -0.01615 -0.15139 -0.00643 -0.16134 C 0.00312 -0.1713 0.01909 -0.16921 0.03385 -0.175 C 0.04878 -0.18079 0.07465 -0.19352 0.08246 -0.19676 E">
                                      <p:cBhvr>
                                        <p:cTn id="184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6000"/>
                            </p:stCondLst>
                            <p:childTnLst>
                              <p:par>
                                <p:cTn id="1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7" dur="4745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419280" y="2205000"/>
            <a:ext cx="439236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14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Elephant"/>
              </a:rPr>
              <a:t>В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14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Elephant"/>
              </a:rPr>
              <a:t>зарабатывае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14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Demi"/>
              </a:rPr>
              <a:t>60</a:t>
            </a:r>
            <a:r>
              <a:rPr b="1" lang="en-US" sz="4900" spc="-1" strike="noStrike">
                <a:solidFill>
                  <a:srgbClr val="ff0000"/>
                </a:solidFill>
                <a:latin typeface="Franklin Gothic Demi"/>
              </a:rPr>
              <a:t> </a:t>
            </a:r>
            <a:r>
              <a:rPr b="1" i="1" lang="en-US" sz="4100" spc="-1" strike="noStrike">
                <a:solidFill>
                  <a:srgbClr val="ff0000"/>
                </a:solidFill>
                <a:latin typeface="Courier New"/>
              </a:rPr>
              <a:t>баллов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1403280" y="627120"/>
            <a:ext cx="1513080" cy="9716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1042920" y="2492280"/>
            <a:ext cx="1728720" cy="32940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 flipH="1">
            <a:off x="6732360" y="620640"/>
            <a:ext cx="1657080" cy="9478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 txBox="1"/>
          <p:nvPr/>
        </p:nvSpPr>
        <p:spPr>
          <a:xfrm>
            <a:off x="2771640" y="836640"/>
            <a:ext cx="4321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_PresentumNrSh"/>
              </a:rPr>
              <a:t>ответ верный !</a:t>
            </a:r>
            <a:endParaRPr b="0" lang="en-US" sz="1800" spc="1" strike="noStrike">
              <a:ln w="2844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_PresentumNrSh"/>
              <a:ea typeface="a_PresentumNrSh"/>
            </a:endParaRPr>
          </a:p>
        </p:txBody>
      </p:sp>
      <p:sp>
        <p:nvSpPr>
          <p:cNvPr id="179" name=""/>
          <p:cNvSpPr txBox="1"/>
          <p:nvPr/>
        </p:nvSpPr>
        <p:spPr>
          <a:xfrm rot="20481600">
            <a:off x="1042920" y="3573360"/>
            <a:ext cx="65556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ра!</a:t>
            </a: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0" name="">
            <a:hlinkClick r:id="rId5" action="ppaction://hlinksldjump"/>
          </p:cNvPr>
          <p:cNvSpPr/>
          <p:nvPr/>
        </p:nvSpPr>
        <p:spPr>
          <a:xfrm>
            <a:off x="6443640" y="6308640"/>
            <a:ext cx="2411280" cy="433440"/>
          </a:xfrm>
          <a:prstGeom prst="bevel">
            <a:avLst>
              <a:gd name="adj" fmla="val 125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должить иг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3" dur="250" autoRev="1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4" dur="250" autoRev="1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5" dur="250" autoRev="1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64 1.48148E-006 C -0.00973 -0.04421 -0.02292 -0.08796 -0.02466 -0.11505 C -0.02622 -0.1419 -0.01615 -0.15139 -0.00643 -0.16134 C 0.00312 -0.1713 0.01909 -0.16921 0.03385 -0.175 C 0.04878 -0.18079 0.07465 -0.19352 0.08246 -0.19676 E">
                                      <p:cBhvr>
                                        <p:cTn id="217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6000"/>
                            </p:stCondLst>
                            <p:childTnLst>
                              <p:par>
                                <p:cTn id="2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0" dur="4745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403280" y="620640"/>
            <a:ext cx="1513080" cy="9716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6300720" y="2276640"/>
            <a:ext cx="1978200" cy="23493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 flipH="1">
            <a:off x="6877080" y="692280"/>
            <a:ext cx="1440000" cy="10746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979640" y="2708280"/>
            <a:ext cx="432108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Arial"/>
              </a:rPr>
              <a:t>Вы  теряе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Demi"/>
              </a:rPr>
              <a:t>10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4100" spc="-1" strike="noStrike">
                <a:solidFill>
                  <a:srgbClr val="ff0000"/>
                </a:solidFill>
                <a:latin typeface="Courier New"/>
              </a:rPr>
              <a:t>баллов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2771640" y="836640"/>
            <a:ext cx="41292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3366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50000">
                      <a:srgbClr val="006699"/>
                    </a:gs>
                    <a:gs pos="100000">
                      <a:srgbClr val="3399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Wide Latin"/>
              </a:rPr>
              <a:t>Ошибка!</a:t>
            </a:r>
            <a:endParaRPr b="1" lang="en-US" sz="1800" spc="1" strike="noStrike">
              <a:ln w="28440">
                <a:solidFill>
                  <a:srgbClr val="003366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50000">
                    <a:srgbClr val="006699"/>
                  </a:gs>
                  <a:gs pos="100000">
                    <a:srgbClr val="3399f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Wide Latin"/>
              <a:ea typeface="Wide Latin"/>
            </a:endParaRPr>
          </a:p>
        </p:txBody>
      </p:sp>
      <p:sp>
        <p:nvSpPr>
          <p:cNvPr id="187" name=""/>
          <p:cNvSpPr txBox="1"/>
          <p:nvPr/>
        </p:nvSpPr>
        <p:spPr>
          <a:xfrm rot="19668600">
            <a:off x="7227360" y="1926720"/>
            <a:ext cx="1405080" cy="68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Lef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й !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8" name="">
            <a:hlinkClick r:id="rId5" action="ppaction://hlinksldjump"/>
          </p:cNvPr>
          <p:cNvSpPr/>
          <p:nvPr/>
        </p:nvSpPr>
        <p:spPr>
          <a:xfrm>
            <a:off x="6443640" y="6308640"/>
            <a:ext cx="2411280" cy="433440"/>
          </a:xfrm>
          <a:prstGeom prst="bevel">
            <a:avLst>
              <a:gd name="adj" fmla="val 125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должить иг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7" dur="58395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60395"/>
                            </p:stCondLst>
                            <p:childTnLst>
                              <p:par>
                                <p:cTn id="2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0" dur="58395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2T07:16:38Z</dcterms:created>
  <dc:creator>Ольга</dc:creator>
  <dc:description/>
  <dc:language>en-US</dc:language>
  <cp:lastModifiedBy>User</cp:lastModifiedBy>
  <dcterms:modified xsi:type="dcterms:W3CDTF">2009-08-12T18:55:47Z</dcterms:modified>
  <cp:revision>69</cp:revision>
  <dc:subject/>
  <dc:title>Слайд 1</dc:title>
</cp:coreProperties>
</file>